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9279-EF08-4737-B405-492743D23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08F1-6246-4351-A286-E47E3FDF0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1B1E-0345-430A-9621-C8FA9E831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99AE-AE26-4FF9-ACF5-1DD935A9A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F6CA-486B-473B-AD72-41565E4B8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F036-7CC5-4727-8880-124F3DE38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CA96-90E2-49BC-83BC-1B8E33077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78A6-75EA-4EE2-BD96-9F1621C62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EA8B-AF4A-4D9B-A7F3-D0AEFA05E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A438-E00B-4E7C-84A1-1108AC90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7CC2-AA1A-4483-A611-9B46D5D9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49F8-FC7D-4070-AECD-CA546C0B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AU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000" spc="-1" strike="noStrike">
                <a:solidFill>
                  <a:srgbClr val="006600"/>
                </a:solidFill>
                <a:latin typeface="Book Antiqu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6600"/>
                </a:solidFill>
                <a:latin typeface="Book Antiqu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01964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1" lang="en-GB" sz="14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EA2509F-280C-4A91-A1F5-2336F176202A}" type="slidenum">
              <a:rPr b="1" lang="en-GB" sz="1400" spc="-1" strike="noStrike">
                <a:solidFill>
                  <a:srgbClr val="0066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Click to edit the title text forma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458200" y="0"/>
            <a:ext cx="68580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ession 10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Linear Mixed Effects Model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4360" y="475920"/>
            <a:ext cx="7772400" cy="57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etrol.lme &lt;- lme(Y ~ SG + VP + V10 + EP, data = petrol, random = ~1 | No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ummary(petrol.lme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Linear mixed-effects model fit by REML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…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Random effects: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Formula: ~1 | No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(Intercept) Residual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StdDev:    1.444741 1.872208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Fixed effects: Y ~ SG + VP + V10 + EP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           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Value Std.Error DF   t-value p-value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(Intercept) -6.134791 14.554171 21 -0.421514  0.6777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SG           0.219398  0.146938  6  1.493136  0.1860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VP           0.545863  0.520528  6  1.048673  0.3347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V10         -0.154243  0.039962  6 -3.859697  0.0084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EP           0.157177  0.005588 21 28.127561  0.0000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5832-B0A5-48FD-8DAA-56F0AAC2BE51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92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Comparison with previous model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nd(summary.lm(petrol.lm3)$coef, 5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Courier New"/>
              </a:rPr>
              <a:t>           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Estimate Std. Error  t value Pr(&gt;|t|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(Intercept) -6.82077   10.12315 -0.67378  0.50618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SG           0.22725    0.09994  2.27390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0.03114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VP           0.55373    0.36975  1.49756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0.14585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V10         -0.14954    0.02923 -5.11597  0.00002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EP           0.15465    0.00645 23.99221  0.00000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Fixed effects: Y ~ SG + VP + V10 + EP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           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Value Std.Error DF   t-value p-value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(Intercept) -6.134795  14.55411 21  -0.42152  0.6777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    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SG  0.219398   0.14694  6   1.49314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0.1860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    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VP  0.545863   0.52053  6   1.04868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0.3347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V10 -0.154243   0.03996  6  -3.85971  0.0084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    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EP  0.157177   0.00559 21  28.12753  &lt;.0001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3645000"/>
            <a:ext cx="777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F19A-B30F-4190-9C05-653D8A3A39BD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Shrinkage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dat &lt;- with(petrol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expand.grid(No = levels(No), SG = mean(SG)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      </a:t>
            </a: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VP = mean(VP), V10=mean(V10), EP = mean(EP)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fixM &lt;- predict(petrol.lm2, dat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ranM &lt;- predict(petrol.lme, dat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conM &lt;- predict(petrol.lm3, dat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X &lt;- rbind(cbind(1,fixM), cbind(2,ranM), cbind(3,conM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plot(X, axes = F, ann = F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segments(1,fixM, 2,ranM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segments(2,ranM, 3,conM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C1D0-F19A-49B9-9012-5E9AE705235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577880" y="434880"/>
            <a:ext cx="5989680" cy="59896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502640" y="73332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ixed eff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621320" y="23176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andom + 3 fix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43280" y="357336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3 fix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8A02-349D-4B27-A63F-984B629491C1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dding random slopes as well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deviation from parallel regressions was not significant, but still somewhat suspicious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We might consider making both the intercept and the slope have a random component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etrol.lme2 &lt;- lme(Y ~ SG + VP + V10 + EP, data = petrol,random = ~ 1 + EP | No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ummary(petrol.lme2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63F2-82C4-4449-A975-6EFD4588EDE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84360" y="549360"/>
            <a:ext cx="7772400" cy="569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Random effects: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Formula: ~1 + EP | No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Structure: General positive-definite, Log-Cholesky parametrization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       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StdDev      Corr 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(Intercept) 1.725640232 (Intr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EP          0.003283688 -0.535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Residual    1.854119617      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Fixed effects: Y ~ SG + VP + V10 + EP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           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Value Std.Error DF   t-value p-value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(Intercept) -6.229186 14.632337 21 -0.425714  0.6746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SG           0.219109  0.147941  6  1.481050  0.1891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VP           0.548118  0.523123  6  1.047781  0.3351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V10         -0.153940  0.040213  6 -3.828130  0.0087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EP           0.157248  0.005666 21 27.753481  0.0000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21B4-73BB-4A9F-A538-D8DB01F8BC1A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Example: The petroleum data of N H Prater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10 samples of crude oi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Partitioned and tested for yield at different “end points”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samples themselves are classified by specific gravity (SG), vapour pressure (VP) and volatility as measured by the ASTM 10% point (V10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Problems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Estimate the rate of rise in yield with end poin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Can we explain differences between samples in terms of external measures?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8B94-5371-406C-8D61-33EBBCF3116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The petrol data displayed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xyplot(Y ~ EP | No, petrol,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panel = function(x, y, ...) {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panel.xyplot(x, y, ...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panel.lmline(x, y, col = 3, lty = 4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},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as.table = T,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aspect = "xy",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xlab = "End point",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ylab = "Yield (%)"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1950-C5D9-431E-96C7-7D837114FEB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395280" y="476280"/>
          <a:ext cx="7848720" cy="60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476280"/>
                    <a:ext cx="7848720" cy="60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666B-1E39-4992-BCAC-0F3368007AD3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Can the slopes be regarded as parallel?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petrol.lm1 &lt;- aov(Y ~ No/EP, petrol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petrol.lm2 &lt;- aov(Y ~ No + EP, petrol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anova(petrol.lm2, petrol.lm1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Analysis of Variance Table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Response: Y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Terms Resid. Df      RSS    Test Df Sum of Sq  F Value     Pr(F)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1 No + EP        21 74.13199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2 No/EP          12 30.32915 1 vs. 2  9  43.80284 1.925665 0.1439048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4572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Yes?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9657-0040-4B93-878F-0A8F4307524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Can we explain differences in intercepts?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petrol.lm3 &lt;- aov(Y ~ . - No, petrol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anova(petrol.lm3, petrol.lm2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Analysis of Variance Table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Response: Y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Terms Resid. Df     RSS    Test Df Sum of Sq  F Value      Pr(F)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1 SG + VP +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V10 + EP       27 134.804                                        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2 No + EP        21  74.132 1 vs. 2  6  60.67197 2.864511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0.03368118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Looks doubtful, but how close is it?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1702-2E4E-4327-9A39-989D23049AD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72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Looking at all three model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052640"/>
            <a:ext cx="7772400" cy="525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mp &lt;- update(petrol.lm2, .~.-1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0 &lt;- predict(tmp, type="terms")[, "No"]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0 &lt;- coef(tmp)["EP"]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 &lt;- cbind(1, petrol$SG, petrol$VP, petrol$V10) %*%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ef(petrol.lm3)[1:4]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 &lt;- coef(petrol.lm3)["EP"]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alette(c("red", "blue", "orange"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xyplot(Y ~ EP | No, petrol, subscripts = T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anel = function(x, y, subscripts, ...) {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anel.xyplot(x, y, ...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anel.lmline(x, y, col = 3, lty = 3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anel.abline(a0[subscripts][1], b0, col = 4, lty = 4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anel.abline(a[subscripts][1], b, col = 5, lty = 5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, as.table = T, aspect = "xy", xlab = "End point"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ylab = "Yield (%)"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873E-61E2-4E41-9567-793B2B687A0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71640" y="0"/>
            <a:ext cx="6769080" cy="6769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28D6-7F36-449B-B1C3-7269194EC9C2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dding a random term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40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external (sample-specific) variables explain much of the differences between the intercepts, but there is still significant variation between samples unexplained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One natural way to model this is to assume that, in addition to the systematic variation between intercepts explained by regression on the external variables, there is a random term as well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We assume this term to be normal with zero mean.  Its variance measures the extent of this additional variat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2D61-853D-493B-AD88-BCDD64E3C9F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4T03:19:39Z</dcterms:created>
  <dc:creator>Venables</dc:creator>
  <dc:description/>
  <dc:language>en-US</dc:language>
  <cp:lastModifiedBy>Venables, Bill (CMIS, Cleveland)</cp:lastModifiedBy>
  <dcterms:modified xsi:type="dcterms:W3CDTF">2007-09-06T14:10:35Z</dcterms:modified>
  <cp:revision>13</cp:revision>
  <dc:subject/>
  <dc:title>S-PLUS, An Introduction to the System</dc:title>
</cp:coreProperties>
</file>