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8B6-7715-4287-874F-0FF6A90D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A104-C754-4127-8343-D068772A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5D4-6523-402E-AC2E-694B9315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EFD-DA01-4756-9657-55EC4B5BF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D98A-5DCA-41AC-91A7-1EE05FA0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446-B214-4F01-8631-E0A9A646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3EB-3029-4554-8830-3044B3B0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09B-2DB2-4768-B42C-1E40118B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47F2-904B-4895-97D5-C342C49F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50F-5C3A-4699-B03E-7FE665C4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7D5-F484-4445-8BEE-ED86AB7D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1A8-9C24-47F9-9CAB-EEB42221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C3B226-536C-48B9-9982-DC03350B81E4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7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 extens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68360" y="2752560"/>
          <a:ext cx="82803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52560"/>
                    <a:ext cx="8280360" cy="35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938160" y="372960"/>
            <a:ext cx="649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v &lt;- fitted(quine.nb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s &lt;- resid(quine.nb7, type = "devian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v &lt;- predict(quine.nb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lot(fv, rs, xlab = "fitted values"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ylab = "deviance residual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line(h = 0, lty = 4, lwd = 2, col =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qnorm(rs, ylab = "sorted deviance residual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qline(rs, col = 3, lwd = 2, lty 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62600" y="192240"/>
            <a:ext cx="2738160" cy="45972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Diagnostic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CD5-8054-4ED1-A9E9-3D5C55246F35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re led to the same model as with the transformed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big advantage we have with this analysis is that it is on the original scale, so predictions would be direc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iagnostic analyses are still useful here, though they are less so with small count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ften the value for theta is not critical.  One alternative to this is to fit the models with a fixed value for theta as ordinary glm’s.  See nex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82D-CEF4-4227-9C74-20899DE743F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xing theta at a constant valu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glm1 &lt;- glm(Days ~ Eth * Sex * Lrn * Age, negative.binomial(theta = t0), data = quine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step &lt;- stepAIC(quine.glm1, k = log(nrow(quine)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step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ays ~ Eth + Sex + Lrn + Age + Eth:Sex + Eth:Lrn + Sex:Lrn + Sex:Age + Eth:Sex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Deviance      AIC scaled dev.  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95.9901 201.5854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Age  3 219.6959 216.5812    20.99584 0.000105485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Sex:Lrn  1 211.5179 213.3381    13.75267 0.000208524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e are led to the same model.  This is a common occurrence if theta is a reasonable value to us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BC4-6F8E-4D98-A7DB-B2D40F4A1C7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ultinomial models (V&amp;R, p. 199 ff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urrogate Poisson models offer a powerful way of analysing frequency data, even if the distribution is not Poisson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is possible because the multinomial distribution can be viewed as a conditional distribution of independent Poisson variables, given their su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multiply classified frequency data, it is important to separate “response” and “stimulus” classifications (which may change according to viewpoint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 only one “response” classification, multinomial models may be fitted directly us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ultino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C273-5FA0-43EC-AF13-03DE769060E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Copenhagen housing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ree ‘stimulus’ classifications: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Typ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Contac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ne ‘response’ classificaltion: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Satisfa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ull model is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*Type*Contac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which corresponds to equal probabilities of 1/3 for each satisfaction clas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mplest real model is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*Type*Contact+Satisfactio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which corresponds to a homogeneity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re complex models are tested by their interactions with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Satisfa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B45-AFC7-453E-835A-326F3B1763A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Homogeneity is not adequat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0 &lt;- glm(Freq ~ Infl*Type*Cont, poisson, housing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1 &lt;- update(hous.glm0, .~.+Sa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nova(hous.glm0, hous.glm1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Unicode MS"/>
              </a:rPr>
              <a:t>(Difference in deviance is 44.65689 on 2 d.f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ddterm(hous.glm1, . ~ . + Sat * (Infl + Type + Cont)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ingle term addi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Freq ~ Infl + Type + Cont + Sat + Infl:Type + Infl:Cont + Type:Cont + Infl:Type:Cont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Df Deviance      AIC      LRT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&lt;none&gt;    217.4560 269.4560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Infl  4 111.0846 171.0846 106.3714 0.000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Type  6 156.7872 220.7872  60.6687 0.000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Cont  2 212.3301 268.3301   5.1258 0.077080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B4C-62AC-4084-AFB9-F53F83CD35D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Housing data, cont’d.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l three terms are necessary, but no mo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2 &lt;- update(hous.glm1, .~.+Sat*(Infl+Type+Cont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 find a table of estimated probabilities we need to arrange the fitted values in a table (matrix) and normalize to have row sums unit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ow do we do thi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BAE-3126-456B-891D-211B0AFD8C6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4360" y="1052280"/>
            <a:ext cx="7772400" cy="49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vs &lt;- lapply(housing[, -5], level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lev &lt;- sapply(levs, length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d &lt;- do.call("cbind", lapply(housing[, -5], function(x) match(x, levels(x))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 &lt;- Pr &lt;- array(0, dim = dlev, dimnames = lev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[ind] &lt;- housing$Freq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ots &lt;- rep(apply(RF, 2:4, sum), each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 &lt;- RF/as.vector(tot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[ind] &lt;- fitted(hous.glm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 &lt;- Pr/as.vector(tot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CE94-AEB8-4D9B-B018-D024E3198F6E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447840"/>
            <a:ext cx="7705800" cy="580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712-5402-414D-AB2E-6119FEFA1FF6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s a multinom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ultino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s set up to take either a factor or a matrix with k columns as the respon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our case we have frequencies already supplied.  These act as case weight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tted values” from a multinomial fit are the matrix of probability estimates, with the columns corresponding to the response classes.  Hence in our case they will occur three times ov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t a multinomial model and check that the fitted values agree with our surrogate Poisson estimate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E13-E14A-46B9-B76D-395A69F96F2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Negative Binomial distribu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ability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ean-variance relationshi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ftware: MASS library 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lm.nb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(can also be fitted by optimisation functions, e.g.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26920" y="2276640"/>
          <a:ext cx="74883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74883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547640" y="4005360"/>
          <a:ext cx="3672000" cy="66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005360"/>
                    <a:ext cx="367200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460-3C12-4C2B-9E72-5EB0D921DD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55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mult &lt;- multinom(Sat ~ Infl + Type + Cont, data = housing, weights = Freq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24 (14 variab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1846.76725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1747.47761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1735.04193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ound(fitted(hous.mult)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Medium High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4 0.26   0.27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71 0.27   0.26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72 0.27   0.26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1 &lt;- t(fitted(hous.mult)[seq(3, 72, 3),  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h1 - as.vector(Pr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3.763807e-006  3.948444e-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13D-C661-4F6F-93D2-4C2A5365198A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oportional odds models (V&amp;R p. 204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parametrically economic version of the multinomi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sponse classification is assumed </a:t>
            </a: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ordered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odel may be specified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ence the cumulative probabilities conform to a logistic model, with parallelism in the logistic sca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SS library contains a function polr to fit such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16000" y="3068640"/>
          <a:ext cx="712800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68640"/>
                    <a:ext cx="71280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684-A95B-4A4B-9A1F-EFBDAB22757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 Prop. Odds model and check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 &lt;- polr(Sat ~ Infl+Type+Cont, data = housing, weights = Freq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lot(fitted(hous.polr), fitted(hous.mult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line(0, 1, col=3, lty=4, lwd=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2 &lt;- stepAIC(hous.polr, ~.^2, k = log(24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2$call$formula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polr(formula = Sat ~ Infl + Type + Cont +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Infl:Type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data = housing, weights = Freq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ith a more parsimonious model the automatic selection procedure uncovers a possible extra term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605-426F-4288-854B-5C160A6C1D9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55640" y="476280"/>
          <a:ext cx="7416720" cy="57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476280"/>
                    <a:ext cx="7416720" cy="57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EE5-A987-4845-B527-9BACD4985F4C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Genesi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 mixture of Poissons (GLMM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mpound Poiss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the Quine data example: both geneses have some credibilit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55640" y="2349360"/>
          <a:ext cx="76327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49360"/>
                    <a:ext cx="7632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826920" y="3789360"/>
          <a:ext cx="76327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789360"/>
                    <a:ext cx="7632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FC4-C56E-4F70-BBCB-9DE879B677C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Quine data again: an initial Poisson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po1 &lt;- glm(Days ~ .^4, poisson, quine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1: deviance = 1373.24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2: deviance = 1178.451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3: deviance = 1173.905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4: deviance = 1173.899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5: deviance = 1173.899</a:t>
            </a: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quine.po1, cor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all: glm(formula = Days ~ (Eth + Sex + Age + Lrn)^4, family = poisson, data = quine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Dispersion Parameter for Poisson family taken to be 1 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ull Deviance: 2073.533 on 145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esidual Deviance: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1173.899 on 118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6AC-0581-42DC-8637-AF4F6EABD58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value for the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euristic: G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≈ Y/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µ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Use the fitted value from the Poisson fit as an estimate of µ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Var[G] = 1/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θ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⇒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θ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≈ 1/Var[G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Well, it’s worth a try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t0 &lt;- 1/var(quine$Days/fitted(quine.po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t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Courier New"/>
              </a:rPr>
              <a:t>[1] 1.96601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5420-DB19-434E-8490-C926B3712C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NB fit and tes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1 &lt;- glm.nb(Days ~ Eth * Lrn * Age * Sex, data = quine, init.theta = t0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76.105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169.9369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5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67.45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heta( 1 ) = 1.92836 , 2(Ls - Lm) = 167.453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1$call$trace &lt;- F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turn off tracing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quine.nb1, test = "Chisq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ays ~ Eth * Lrn * Age * Sex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095.324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Age:Sex  2 1092.728 1.403843 0.495631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CA1-5F1F-4E14-ABDC-3D711435F0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 Unicode MS"/>
              </a:rPr>
              <a:t>Backwards elmination to a final model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b2 &lt;- update(quine.nb1, . ~ . - Eth:Lrn:Age:Se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b2, test = "Chisq", k = log(nrow(quine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170.302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Age  2 1166.308 5.973579 0.050449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Sex  1 1167.914 2.595925 0.107138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Age:Sex  3 1158.032 2.680925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0.443478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rn:Age:Sex  2 1166.614 6.279241 0.04329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b3 &lt;- update(quine.nb2, . ~ . - Eth:Age:Se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b3, test = "Chisq", k = log(nrow(quine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     AIC      LRT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158.032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Age  2 1153.833 5.768399 0.0558995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Sex  1 1158.087 5.038374 0.0247917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rn:Age:Sex  2 1153.766 5.701942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0.0577881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CCD4-8264-4A77-A490-4252DF650B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4 &lt;- update(quine.nb3, . ~ . - Lrn:Age:Sex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4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53.766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58.505 19.68971 0.000196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Age  2 1148.119  4.32009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15320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54.271  5.48811 0.019146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5 &lt;- update(quine.nb4, . ~ . - Lrn:Age:Eth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5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48.119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Age  3 1138.559  5.39070 0.145324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rn:Age  2 1141.940  3.78782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5048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54.312 21.14342 0.000098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52.251  9.11539 0.002534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6 &lt;- update(quine.nb5, . ~ . - Lrn:Age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6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41.940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Age  3 1132.796  5.80638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21419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45.429 18.43993 0.000356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45.395  8.43894 0.003672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991-3171-45BA-821A-FF4CE11FF40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7 &lt;- update(quine.nb6, . ~ . - Eth:Ag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quine.nb7, test = "Chisq", k = log(nrow(quine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Days ~ Eth + Lrn + Age + Sex + Eth:Lrn + Eth:Sex + Lrn:Sex + Age:Sex + Eth:Lrn:Sex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Df      AIC      LRT      Pr(Chi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&lt;none&gt;    1132.796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ge:Sex  3 1136.464 18.61934 0.000327693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th:Lrn:Sex  1 1140.234 12.42160 0.000424396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check &lt;- glm.nb(Days ~ Sex/(Age + Eth * Lrn), quine); deviance(quine.nb7); deviance(quine.check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67.55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67.55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fitted(quine.nb7) - fitted(quine.check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0.00006764941  0.0000203768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289-E775-4F3A-B2C8-F06602A5DFE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3:27:35Z</dcterms:modified>
  <cp:revision>11</cp:revision>
  <dc:subject/>
  <dc:title>S-PLUS, An Introduction to the System</dc:title>
</cp:coreProperties>
</file>