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8D18-382D-450D-AC6F-BD13AC04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D87-56AC-4A9B-8766-EA446484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F49-2DFF-44D9-8910-DC7C7BC6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2C2-5CFE-4F0B-B3D1-4F225293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985-7B74-4E4A-8E81-EBD8884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D11-D01F-4AC0-B5B8-2FE62663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E52-54F5-4546-9F4A-EFF3A6ED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4890-D891-4F01-9DD8-0332B95A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D276-08DB-452E-AD9D-3727CCD6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747-89DC-49E5-832E-6C14D30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5CF-A40B-47A2-B04E-1FDA627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37C-713C-46B3-BA71-1AB87FD3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C4FC1F-C9CB-4A7E-8A4C-970AA6B1EE42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-based models: tree and 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Now fit the first model with a very small minimum splitting siz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rpart, first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1, minsplit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1)  # not good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572312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See how the tree look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045-1D42-4F99-BD5C-8435D29AED0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77" r="0" b="11185"/>
          <a:stretch/>
        </p:blipFill>
        <p:spPr>
          <a:xfrm>
            <a:off x="755640" y="0"/>
            <a:ext cx="763272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15DA-1341-4971-B5F7-605A3E1DB8F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cpus.t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= 1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de), split, n, deviance, yva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 denotes terminal nod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) root 100 104.7362000 4.150773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) cach&lt; 31 68  29.9160800 3.62805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) mmax&lt; 11240 51  11.9181500 3.39132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) syct&gt;=750 9   0.5870328 2.74058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) syct&lt; 750 42   6.7031610 3.530774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) mmax&lt; 5500 24   2.3057870 3.34283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) mmax&gt;=5500 18   2.4194180 3.78135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) mmax&gt;=11240 17   6.5655770 4.33824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0) chmin&lt; 5 13   1.7793700 4.05273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1) chmin&gt;=5 4   0.2822183 5.26617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) cach&gt;=31 32  16.7585700 5.261541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) syct&gt;=36.5 19   3.9935560 4.854145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) mmax&lt; 14000 7   0.6427171 4.42879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) mmax&gt;=14000 12   1.3456220 5.102265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) syct&lt; 36.5 13   5.0026270 5.85696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) mmax&lt; 48000 10   1.5606240 5.58241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5) mmax&gt;=48000 3   0.1756196 6.77213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0A0-0DF8-4DA2-850D-68876D4426E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o prune trees so th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small enough to avoid putting random variation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large enough to avoid putting systematic biases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ross-validation is the normal tool for this purpo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a quick version, but tools for a more thorough version if nee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tools for the more thorough version, (but the onus is still on the user to do it thoroughl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AB87-8240-4635-8480-C68317682E6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oss-validation in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a cost-complexity measur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complexity parameter,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, regulates the trade-off between accuracy in the training sample and simplicity in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y building trees on rotating sections of the data and predicting for the omitted sections we get some idea on the kind of value that might be appropriate for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‘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ne SE’ rule suggests a choice of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32000" y="2276640"/>
          <a:ext cx="67690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769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3C5-B6C6-4018-8662-6F5B3AC6A6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1800" y="1890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cp(cpus.t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2F8-9A07-4A69-BAFF-B21BDC05F334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ather than 8 nodes this suggests that about 6 nodes are warranted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2 &lt;- prune(cpus.t1, cp=0.019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2)  ## slightly wor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608650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 &lt;- predict(cpus.t1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2 &lt;- predict(cpus.t2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r(cbind(log(cpusTest$perf), py.tree, py.tree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py.tree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.0000000 0.8454302 0.824757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0.8454302 1.0000000 0.9854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2 0.8247576 0.9854434 1.00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uning seems not to have paid off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6D2-528F-41C5-B251-AF6AE2847DC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840" y="495360"/>
            <a:ext cx="21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9118" r="0" b="12748"/>
          <a:stretch/>
        </p:blipFill>
        <p:spPr>
          <a:xfrm>
            <a:off x="1979640" y="1197000"/>
            <a:ext cx="662472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779-F02A-4CAB-A743-1A4189FE2A05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9120" y="136440"/>
            <a:ext cx="64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1,2), pty = "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1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C28-4692-4C10-99DF-666F8AACD01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Aggregation (or ‘Bagging’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echnique for considering how different the result might have been if the algorithm were a little less gree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training samples of the data are used to construct a ‘forest’ of tre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ions from each tree are averaged (regression trees) or ‘majority vote’ (for classification tre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many trees in the forest is still a matter of some debate, but ‘lots’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Forests’ develops this idea much furth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F5D-066D-4513-9D15-3FFD9C31C64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wo libr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library is like the S-PLUS native library and implements the traditional S-PLUS tree technolog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brary is due to Beth Atkinson and Terry Therneau of the Mayo Clinic, Rochester, NY.  It implements a technology much closer to the traditional CART version of trees due to Friedman, Breiman, Olshen and Ston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th have their advantages and disadvantages.  We mostly favou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version here, but most examples can be done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library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C01-1430-46F5-91AC-9253E5051B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bagging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sample &lt;- function(dataFrame) </a:t>
            </a:r>
            <a:r>
              <a:rPr b="1" lang="en-AU" sz="1800" spc="-1" strike="noStrike">
                <a:solidFill>
                  <a:srgbClr val="ff0000"/>
                </a:solidFill>
                <a:latin typeface="Courier New"/>
              </a:rPr>
              <a:t># bootstrap sampl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Frame[sample(nrow(dataFrame), rep = T), 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impleBagging &lt;- function(objec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 = eval(object$call$data), nBags = 200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 &lt;- list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nBags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[[j]] &lt;- update(object, data = bsample(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ldClass(bagsFull) &lt;- "bagRpart"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Rpart &lt;- function(object, newdata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owMeans(sapply(object, predict, newdata = new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573-2420-4D68-A18D-B6B8E548917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ecute and compar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pus.bag &lt;- simpleBagging(cpus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(cpus.bag)  # bit better!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] 0.46789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y.bag &lt;- predict(cpus.bag, cpusTes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r(cbind(log(cpusTest$perf), py.bag, py.tree, py.tree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py.tree  py.tree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.0000000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0.8454302 0.824757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1.0000000 0.9609053 0.94023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  0.8454302 0.9609053 1.0000000 0.98544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2 0.8247576 0.9402384 0.9854434 1.00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9E1-010D-4977-9FF0-FC18C0AF929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046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792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00" y="353880"/>
            <a:ext cx="542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ar(mfrow = c(2,2), pty = "s"); 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bag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C35-ECC4-4C9E-99D6-DF68CADFFC44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big gu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The Random Forest technique, due to Leo Breiman and his colleagues, is a further development of bagg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includes subsampling of the possible predictors at every possible split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Generally accepted as one of the best of the simple methods for improving the stability of tre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Available as the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Forest</a:t>
            </a: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 package for </a:t>
            </a:r>
            <a:r>
              <a:rPr b="0" i="1" lang="en-AU" sz="2000" spc="-1" strike="noStrike">
                <a:solidFill>
                  <a:srgbClr val="000099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rf &lt;- randomForest(log(perf) ~ ., cpus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r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[1] 0.410411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5829-93AA-48E3-B450-C887CCDA2E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Putting it all togeth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rf &lt;- predict(cpus.rf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ound(cor(cbind(log(cpusTest$perf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, py.tree2, py.bag, py.rf)),4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py.tree2 py.bag  py.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1.0000  0.8454   0.8248 0.9094 0.93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 0.8454  1.0000   0.9854 0.9609 0.942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2 0.8248  0.9854   1.0000 0.9402 0.92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bag   0.9094  0.9609   0.9402 1.0000 0.99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rf    0.9305  0.9429   0.9250 0.9905 1.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0AC-BA47-42E0-A76F-5A130EA6A7D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Values against predi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pusTest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rf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bag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2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877-2E7D-40BA-9AC3-118EADA084D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162000"/>
            <a:ext cx="66960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E1F-62AA-4C4E-8478-479DDB46BB3E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ynoptic foreca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fault prediction method for classification trees is to give a matrix of probabilities of class membershi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allows the membership situation to be more clearly appreciat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class” rule simply chooses the class with maximum posterior probabilit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Bagging in 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usual recommendation is to use a ‘majority vote’ ru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C0C-4DBF-4E20-B85D-E0CD8BF5FF7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pilog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 models have brought statistical modellers and the machine learning fraternity closer togeth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predictors they offer some useful features, but suffer from instabilit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agging is an attempt to overcome this instability, but has only limited succes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reiman &amp; Cutler’s ‘Random Forests’ offers a refinement of bagging that looks very promis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osting’ is an alternative to bagging, but much more difficult to implement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s in data analysis: often revealing, but there is often a danger to read too much into the split variabl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4F5-E920-4848-B741-FA9ACACF2F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oal is to construct a predictor, perhaps at the cost of a safe interpretation of how it 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s are easy to interpret, but relying on that interpretation can be hazardou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ursive partitioning: Note that this is a greedy algorith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wo kinds of tre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egress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ontinuous response with deviance measured as least squares – exactly the same as fo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actor response with deviance measured by entropy (or Shannon-Wiener Information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42F-53AB-4F28-8CEA-12D3B1D4B1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cursive partitio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a homogeneity measure – least squares or entrop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a given variable, find the point at which the responses are divided into the two most homogeneous grou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e the variable which does this best and divide the sample into two groups at the best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pply the same procedure recursively to each si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op when either the node is completely homogeneous or contains too few observations to contin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51D-42BE-4613-9218-336C20E470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84720" y="47628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79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437000"/>
            <a:ext cx="19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12536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256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964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5300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" y="404640"/>
            <a:ext cx="38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decision tree with four terminal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255-10C0-42A7-9F37-F61291B56CEF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CPUs data agai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example from the prediction literature – a set of CPUs whose log-performance is to be predicted using some qualitative measur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names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name"    "syct"    "mmin"    "mmax"    "cach"    "chmin"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7] "chmax"   "perf"    "estperf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im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209   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begin using a pruned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ompare the results using a bagging approac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C17-D233-4429-B732-5A44549C19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ansformed response scale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'log' transform seems natur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ne way of showing that it is acceptabl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 &lt;- cpus[, 2:8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6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[[j]] &lt;- cut(rank(CPUs[[j]],ties = "r"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m &lt;- lm(perf ~ ., 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oxcox(fm, lambda = seq(-0.15, 0.15, len = 10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C44-2639-4E43-8EC7-FB32BEA40D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2760-D023-4B6E-B2C1-928067409F6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Arial Unicode MS"/>
              </a:rPr>
              <a:t>First split the data into training and test sets and set up a test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et.seed(38267251) # My phone number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samp &lt;- sample(nrow(cpus),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rain &lt;- cpus[cpus.samp, 2:8] # omit name and manufactuer's estimat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est &lt;- cpus[-cpus.samp, 2:8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Pred &lt;- function(fit, data = cpusTest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mean squared error for the performance of 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predictor on the test data.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Vals &lt;- log(data[, "perf"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edVals &lt;- predict(fit, data[, 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qrt(sum((testVals - predVals)^2)/nrow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brary(rpar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 cpusTrain, minsplit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CF9-327F-427D-B89C-30DA99561FE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43Z</dcterms:modified>
  <cp:revision>20</cp:revision>
  <dc:subject/>
  <dc:title>S-PLUS, An Introduction to the System</dc:title>
</cp:coreProperties>
</file>