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779A-FEFD-42C4-BF6A-930249D1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76EB-E355-4BDE-86B9-A97A23B0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3CF-285A-44E6-B489-C2BEA374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4FA-801C-4A8C-A265-4B468C53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C31-8E91-4C7F-8355-A14F268F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B10-57C2-49D2-A245-0EA1C2C7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9C9-4B5A-4FC3-AA74-1A904B52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424-F3CD-49FF-B0FB-6A4FC138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83D-439B-485C-80AF-BF621565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63FC-0B90-4548-82BD-92ABC73F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29E1-A293-4828-BA0A-B3AFB538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BD5-63E1-43D2-ABB1-CF0C9A3D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61F7B3-1CD8-4AEE-930B-B1BEEDD0E56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eating a contrast matrix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 &lt;- diag(4)[1:3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[col(M) - row(M) == 1] &lt;-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        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Desired meaning of contras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  1   -1    0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   0    1   -1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   0    0    1  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 &lt;- fractions(ginv(M))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matrix to us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3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-1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-1/4 -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4,] -1/4 -1/2 -3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77F2-3367-4B72-A0E6-25CE9C9B89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ified function for the job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ntrsdif &lt;- function(n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diag(n)[1:(n-1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X - cbind(0, X[, -n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inv(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ractions(contrsdif(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,]  4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,] -1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,] -1/5 -2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4,] -1/5 -2/5 -3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,] -1/5 -2/5 -3/5 -4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ttr(, "rank")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e the MASS function contr.sdif for a more bullet-proof vers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6D9-49D8-4688-91BD-AC5D5B5DDA0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unbalanced 4-way classific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in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data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# of days absent from school in a yea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fying facto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our levels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boriginal or Non-aborigin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r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low or Aver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x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Male or Fema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Construct a linear model to describe the differences in behaviour between the groups so def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B57-6E82-4C94-A1CD-E90D80E7790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xtent of the imbalance: Design iss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th(quine, table(Lrn, Age, Sex, Eth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F, A          , , F, N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4  5  1  9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4  6  1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1 10  8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1 11  9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A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N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5  2  7  7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6  2  7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3  3  4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3  7  3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0A5-141A-4A63-A33D-4C86E1EEC76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ll variances vs cell mea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Means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mean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Vars 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va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SD &lt;- sqrt(Var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 2), pty=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Vars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Variance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SD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Std Devn.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3AAE-F169-4695-9D51-BBE5946CAB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24819" r="0" b="16619"/>
          <a:stretch/>
        </p:blipFill>
        <p:spPr>
          <a:xfrm>
            <a:off x="250920" y="549360"/>
            <a:ext cx="8642160" cy="50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19C7-F9CC-458F-A0D0-02E06B2786EA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 or log(y + c) transform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28061" r="0" b="22570"/>
          <a:stretch/>
        </p:blipFill>
        <p:spPr>
          <a:xfrm>
            <a:off x="1290600" y="3429000"/>
            <a:ext cx="65628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3128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=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oxcox(Days+1 ~ Eth*Sex*Age*Lrn, data = quine, singular.ok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ambda = seq(-0.05, 0.45, len = 2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ogtrans(Days ~ Age*Sex*Eth*Lrn, data = quine, xlab=expression(alpha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lpha = seq(0.75, 6.5, len = 20), singular.ok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40F-B558-4BE5-96C6-E4CAF4DFAC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s and backwards elimin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hi &lt;- aov(log(Days + 2.5) ~ Eth*Sex*Age*Lrn, quin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xt &lt;- update(quine.hi, . ~ . - Eth:Sex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xt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g(Days + 2.5) ~ Age + Sex + Eth + Lrn + Age:Sex + Age:Eth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 + Age:Lrn + Sex:Lrn + Eth:Lrn + Age:Sex:Eth + Age:Sex:Lrn + Age:Eth:Lrn + Sex:Eth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64.099 -68.184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Eth  3     0.974  65.073 -71.982   0.608 0.611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Lrn  2     1.466  65.565 -68.882   1.372 0.2574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Eth:Lrn  2     2.128  66.227 -67.415   1.992 0.140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:Lrn  1     1.579  65.678 -66.631   2.956 0.088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34A-44EA-4237-A1D4-DC86BD9B60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orwar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lo ~ aov(log(Days+2.5) ~ 1, quin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ddterm(quine.lo, quine.hi, test = "F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ingle term addi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Days + 2.5) ~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&lt;none&gt;              106.787 -43.664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ge     3     4.747 102.040 -44.303   2.202 0.090480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x     1     0.597 106.190 -42.483   0.809 0.369805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th     1    10.682  96.105 -57.052  16.006 0.0001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rn     1     0.004 106.783 -41.670   0.006 0.939208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60E-782B-4B40-ADD0-F80BBE0469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p &lt;- stepAIC(quine.nxt, scope = list(upper =  ~ Eth * Sex * Age * Lrn, lower =  ~ 1), trace = FAL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mmary(quine.stp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AU" sz="16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f Sum Sq Mean Sq F value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           3  4.747   1.582  2.9698  0.0344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           1  0.255   0.255  0.4777  0.49072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           1 10.069  10.069 18.8978 2.829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Lrn           1  0.653   0.653  1.2254  0.27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Sex       3  8.816   2.939  5.5152  0.00137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       3  5.835   1.945  3.6504  0.01449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       1  0.009   0.009  0.0173  0.89563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Lrn       2  2.886   1.443  2.7082  0.0705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Lrn       1  0.029   0.029  0.0542  0.81637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:Lrn       1  0.099   0.099  0.1852  0.6676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:Lrn   2  3.759   1.880  3.5277  0.03233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:Lrn   1  3.032   3.032  5.6916  0.0185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iduals   125 66.600   0.533</a:t>
            </a:r>
            <a:r>
              <a:rPr b="0" lang="en-AU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B2EC-8C0A-4982-B56C-C41D2B1A03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with factor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quadratic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linear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allel linear regressions within the levels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mon linear regression (ignoring the factor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regression at al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ample: the Whitesid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8BD8-D471-4BA0-B843-5ABA51FFDE0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urther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stp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3 &lt;- update(quine.stp, . ~ . - Eth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3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4 &lt;- update(quine.3, . ~ . - Eth:Ag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4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5 &lt;- update(quine.4, . ~ . - 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5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log(Days + 2.5) ~ Eth + Sex + Age + Lrn + Eth:Sex + Eth:Lrn + Sex:Age + Sex:Lrn + Eth:Sex:Lr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Df Sum of Sq      RSS       AIC  F Value 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&lt;none&gt;              74.63858 -69.95858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ex:Age  3  9.900204 84.53878 -57.77385  5.83624 0.00089437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Eth:Sex:Lrn  1  6.298792 80.93737 -60.12993 11.13956 0.00109819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B65E-2DC7-420C-B4A1-6E9D4439432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C penalty on complexit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bic &lt;- stepAIC(quine.nxt, k = log(nrow(quin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cope = list(upper=~Eth*Sex*Age*Lrn,lower=~1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bic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log(Days + 2.5) ~ Eth + Sex + Age + Lrn + Eth:Sex + Eth:Lrn +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+ Sex:Lrn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Df Sum of Sq      RSS       AIC  F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  74.63858 -69.95858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 3  9.900204 84.53878 -57.77385  5.836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 1  6.298792 80.93737 -60.12993 11.13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0.00089437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0.0010981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BEA-90DE-4C16-922E-27A95D9738D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pretation of fin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be written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og(Y + 2.5) ~ Sex/(Age + Eth*Lr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wo sexes behave differen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in each sex, however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*L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ct additively in this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 much simplification, but som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8DD-085F-40A2-875D-4B1EE576F0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: The Boston house pric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ult the help information for the Boston house price data from he MASS libra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truct a model describing the median house-price (variable medv) in terms of the other variables give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Prune the model using standard AIC.  Compare the result with that using BIC as the fit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Do the standard diagnostic tests indicate any possible reasons for concern with the analysis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How would you investigate whether or not two-term interactions between the predictors may be needed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What about quadratic terms as well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Report your conclusion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03B-4AC3-4EEB-8EA6-8A1D3BE4915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95640" y="404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773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306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414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7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5157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85092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85928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858920" y="3860280"/>
            <a:ext cx="360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51280" y="3933360"/>
            <a:ext cx="28728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27640" y="2707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00720" y="141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1800" y="6206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poly(Temp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5800" y="20606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3284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+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2720" y="43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1280" y="443700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not conside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1080" y="54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33840" y="227664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A lattice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45A0-FB49-4056-B091-AC92EAE6F5D3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equence of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Fit the sequence of model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q2 &lt;- aov(Gas ~ Insul/poly(Temp, 2)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2 &lt;- aov(Gas ~ Insul/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 &lt;- aov(Gas ~ Insul +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0 &lt;- aov(Gas ~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0 &lt;- aov(Gas ~ 1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Test each within the next in the sequenc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white.lm0, white.lml0, white.lml, white.lml2, white.lmq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5A4-84DC-45FD-B9A8-75134D52607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alysis of Variance tab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Gas ~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Gas ~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Gas ~ Insul +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4: Gas ~ Insul/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5: Gas ~ Insul/poly(Temp,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Df Sum of Sq  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   55 75.014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   54 39.995  1    35.019 359.4189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   53  6.770  1    33.224 340.9968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     52  5.425  1     1.345  13.8057 0.00051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5     50</a:t>
            </a:r>
            <a:r>
              <a:rPr b="1" lang="en-AU" sz="1600" spc="-1" strike="noStrike">
                <a:solidFill>
                  <a:srgbClr val="000099"/>
                </a:solidFill>
                <a:latin typeface="Arial Unicode MS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.8720  2     0.554   2.8408 0.067836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EB96-52A9-45E5-8F46-3F35508C6B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terms within the level of the insulation factor are unnecessary (apparently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regressions apply within the level of the insulation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lopes are different: stop at </a:t>
            </a:r>
            <a:r>
              <a:rPr b="0" lang="en-GB" sz="2400" spc="-1" strike="noStrike">
                <a:solidFill>
                  <a:srgbClr val="000099"/>
                </a:solidFill>
                <a:latin typeface="Courier New"/>
              </a:rPr>
              <a:t>Insul/Tem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ulation makes a difference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E4C-A57C-470B-AC28-4638C8F3B9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duct a similar analysis for the Birthwt data set and report your conclu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lot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es there appear to be any variance heterogeneity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your analysis, what linear model most plausibly describes the situation generating the data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s there a systematic difference in size between girls and boys?  Explain brief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747-FAA3-4393-A08C-A1C9008B6D2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not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actor variables generate terms in the model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way in which most people are familiar is to start with a redundant binary representation and drop columns to remove the redundancy.  e.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ut                  and then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corresponds to removing the first column corresponding to the alpha term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ther resolutions are possible (and used)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3357720"/>
          <a:ext cx="39592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357720"/>
                    <a:ext cx="39592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692360" y="4221000"/>
          <a:ext cx="122400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221000"/>
                    <a:ext cx="12240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356000" y="4221000"/>
          <a:ext cx="446400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221000"/>
                    <a:ext cx="44640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51C-C684-4A66-A773-37C778FF39A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r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V&amp;R page 146 ff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ontr.helmert(4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contrast matri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1   -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2    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    0    2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    0    0    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ractions(ginv(contr.helmert(4))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meaning of estimate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 [,2]  [,3]  [,4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,]  -1/2   1/2     0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2,]  -1/6  -1/6   1/3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3,] -1/12 -1/12 -1/12   1/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3B9-2D29-45F1-B16C-67993E6CBA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9T02:22:30Z</dcterms:modified>
  <cp:revision>21</cp:revision>
  <dc:subject/>
  <dc:title>S-PLUS, An Introduction to the System</dc:title>
</cp:coreProperties>
</file>