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A29-456B-4C94-B892-CC59DE43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C230-73B9-4B7C-AA5E-DC6535F2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488-DE14-4B0A-A56B-8CE015FDF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F1BF-F1B7-40C7-8501-689912B0A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39A-176C-4E86-B36E-177E3DFF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1BAE-CEE0-4773-BF44-8DE55E77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A0E-2CCF-4B7F-96F6-F47C05C2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650-544B-4D97-B998-1E1C62C9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9E8-C6D6-4333-9875-7E4A45BB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3A7-84B3-4C86-A602-EDA8E92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95F-A4AE-4432-AD6B-0383F78C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C8C-0A26-40C0-B673-D10C81A2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7EF0F7-3B48-406B-8B97-DA0BFE76D3A0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2852640"/>
          <a:ext cx="874872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52640"/>
                    <a:ext cx="87487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2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fitted(Cars93.step), 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line(h = 0, lty = 4, col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norm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line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F57-9985-478E-9407-8B69F99203DF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if we use AIC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AIC &lt;- stepAIC(Cars93.lm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cope = list(lower = ~ Weight, upper = ~ Type + Min.Pric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ce + Max.Price + AirBags + DriveTrain + Cylinders + EngineSize + Horsepower + RPM + Rev.per.mile +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uel.tank.capacity + Passengers + Length + Wheelbase + Width + Turn.circle + Weight + Origin), k =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76E-AA15-42CF-9E1C-AD8653CDF0A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00./MPG.city ~ Weight + Cylinders + Fuel.tank.capacity + Length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+ Min.Price + Horsepower + Wheelba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ne&gt;               938.132 240.9501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heelbase  1   24.2090  962.341 241.3195  2.06444 0.15466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orsepower  1   45.2546  983.387 243.3315  3.85913 0.05294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ength  1   64.4150 1002.547 245.1260  5.49305 0.02157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ylinders  5  157.5719 1095.704 245.3894  2.68742 0.026898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in.Price  1   82.2667 1020.399 246.7675  7.01536 0.009733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 1  105.3495 1043.481 248.8478  8.98377 0.003627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el.tank.capacity  1  156.0240 1094.156 253.2579 13.30508 0.00046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eight  1  239.4604 1177.592 260.0924 20.42019 0.000021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Much less stringent choice of variables.  Perhaps we should remove some starting with the least significant.  The ‘backwards elimination’ sequence is as follow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482-3693-438F-8885-E0E87D7C87B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Wheelba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Horsepower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Cylinder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1000./MPG.city ~ Weight + Fuel.tank.capacity + Length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Df Sum of Sq      RSS      AIC F Value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&lt;none&gt;              1126.909 244.0010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Length  1  122.4164 1249.326 251.5917  9.4508 0.002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  1  153.1380 1280.047 253.8509 11.8226 0.00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Origin  1  188.6606 1315.570 256.3966 14.5650 0.000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uel.tank.capacity  1  223.0965 1350.006 258.7996 17.2236 0.0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Weight  1  362.0418 1488.951 267.9102 27.9505 0.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66C-4451-498D-AA41-0BD3BC4336A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interaction terms have been remov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the BIC mode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not present, but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rigi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in.pri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presumably a surrogate variable for engineering refin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IC model is very different, but has a slightly lower multiple R</a:t>
            </a:r>
            <a:r>
              <a:rPr b="0" lang="en-GB" sz="2400" spc="-1" strike="noStrike" baseline="30000">
                <a:solidFill>
                  <a:srgbClr val="000099"/>
                </a:solidFill>
                <a:latin typeface="Arial Unicode MS"/>
              </a:rPr>
              <a:t>2.  (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ly a very biased equ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standard diagnostic plots for the BIC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iduals vs fitted value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scores plot of the residua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A19-B939-4BCB-84DD-C3A61C0DC0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ee modelling 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### now for something completely differe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par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tm &lt;- rpart(I(1000/MPG.city)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cp(Cars93.t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ars93.tm); text(Cars93.tm, col = "green4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predict(Cars93.tm), predict(Cars93.AIC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lty = "solid"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76A-1C9A-4FC2-8652-BA8761C20EE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DFBD-15EA-4808-B1B1-683826AFCFAC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8299" r="0" b="10498"/>
          <a:stretch/>
        </p:blipFill>
        <p:spPr>
          <a:xfrm>
            <a:off x="826920" y="0"/>
            <a:ext cx="7417080" cy="60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9D5-679A-4241-8EFB-0D5B4CDF59E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207" r="0" b="0"/>
          <a:stretch/>
        </p:blipFill>
        <p:spPr>
          <a:xfrm>
            <a:off x="900000" y="0"/>
            <a:ext cx="7272360" cy="67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FF63-32A8-46F1-A5CC-DFE1A4C5C72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 of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ars93.rf &lt;- randomForest(1000/MPG.city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lot(predict(Cars93.rf), predict(Cars93.AIC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abline(0, 1, lty = "solid"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3520-E518-44DC-BBEA-C810A10A281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Cars 93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Details (~data) from 93 makes of car released in the USA in 1993.  Variable names largely self-explanator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ion equation for the fuel economy from the other variables availabl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nt(names(Cars93), quote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] Manufacturer      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4] Price              Max.Price          MPG.city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7] MPG.highway       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0] Cylinders          EngineSize         Horsepower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3] RPM               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6] Fuel.tank.capacity Passengers         Length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9] Wheelbase         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2] Rear.seat.room     Luggage.room       Weight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5] Origin             Mak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947-E6E1-41C1-AF46-3E3E5B4908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ED16-1085-490A-8BF2-AF78CF48A8A2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ree models can be unstable, but the tree structure is often enlightening and predictions from them can be fairly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andom forests can substantially improve the predictive capacity of tree models, but at the expense of interpretability: a 'black box'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eally tools from machine learning and data mining, but useful in conjunction with classic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later in the course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B0A-9260-411D-9030-5DF68424E8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cale of the respon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the response we choo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dominant predictor will (presumably) be the weight of the vehicl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some exploratory plot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0/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1 &lt;- xyplot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2 &lt;- xyplot(1000/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1, c(0, 0.5, 0.5, 1), mor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2, c(0.5, 0.5, 1, 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F23-5BB5-48B8-8C3F-3266A3B0AB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860640"/>
            <a:ext cx="777240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irst scale asymptotes to zero and the variance contracts for larg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econd scale is open-ended for large vehicles and shows much more varianc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ither scale is a convenient one for fue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50005"/>
          <a:stretch/>
        </p:blipFill>
        <p:spPr>
          <a:xfrm>
            <a:off x="790560" y="0"/>
            <a:ext cx="756144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5CA-B0D3-4D8E-BB37-F040EA829762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vice for choosing a scale which is a power transform of the original.  (See introductory session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 &lt;- lm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xcox(Cars93.lm, lambda = seq(-2, -0.5, len=15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ce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λ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= -1 is well within the acceptable range (next slide), this is the scale we confir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ow look for other variables that might improve the predi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rs93.lm &lt;- update(Cars93.lm, 1000/MPG.city ~ 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910-2CF0-4703-A37F-DBA4E75648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8299" r="0" b="0"/>
          <a:stretch/>
        </p:blipFill>
        <p:spPr>
          <a:xfrm>
            <a:off x="934920" y="0"/>
            <a:ext cx="72723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89EE-A421-40BC-B196-E0DA02BD2A3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 of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never a good idea to entrust the selection of variables in a regression entirely to some automated procedu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, nevertheless, often quite a good idea to take into account which variables such procedures suggest as important, along with other thing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fit an intermediate regression and consider an automated procedure that steps “up and down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ther than minimize AIC, we choose BIC, which penalizes redundant variables much hard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A94-25E9-4C7D-BAAC-5390933235B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1 &lt;- lm(1000/MPG.city ~ Type * (Weight + Horsepower + Length)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Cars93.lm1, test = "F", k = log(9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Type * (Weight + Horsepower + Leng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1059.993 335.0903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Weight  5  163.6090 1223.602 325.7762 2.130018 0.072042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Horsepower  5   92.1563 1152.150 320.1804 1.199779 0.318526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Length  5  149.1609 1209.154 324.6715 1.941918 0.098471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ice that only the marginal terms are dropped and none are significant.</a:t>
            </a: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881-49ED-4A65-B60D-D0F3B5A18B3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epwise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rs93.step &lt;- stepAIC(Cars93.lm1, scope = list(lower = ~ Weight, upper = ~ Type*(Min.Price + Price + Max.Price + AirBags + DriveTrain + Cylinders + EngineSize + Horsepower + RPM + Rev.per.mile + Fuel.tank.capacity + Passengers + Length + Wheelbase + Width + Turn.circle + Weight + Origin)), k = log(9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Cars93.step, test = "F", k = log(93)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Weight + Length + Fuel.tank.capacity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            1126.91  259.20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Weight              1    362.04 1488.95  280.57   27.95 9.137e-0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ngth              1    122.42 1249.33  264.25    9.45 0.002819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uel.tank.capacity  1    223.10 1350.01  271.46   17.22 7.718e-0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Origin              1    188.66 1315.57  269.06   14.57 0.000252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           1    153.14 1280.05  266.51   11.82 0.0009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285-C433-4AE4-9C82-CCB7AA7DD6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2:58:25Z</dcterms:modified>
  <cp:revision>12</cp:revision>
  <dc:subject/>
  <dc:title>S-PLUS, An Introduction to the System</dc:title>
</cp:coreProperties>
</file>