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FF8A-111A-41E6-AF7B-6B5B536A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B45A-EFEE-4817-952E-1295923D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ACA9-FB3A-40DB-A0BF-50BE81129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707-5036-4865-9F09-B3B58A7F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0B3-7680-4FC1-8324-D33B25D1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DD8C-AAA2-471C-8A87-9640F173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3BE-770E-4A0A-9543-4C2BC9C6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899-3830-4B68-806D-2F6082F4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F9D6-9425-42A4-B94C-C84BD862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AA8-C72D-4BD6-AD1F-7EE3FE5B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7F8-F5B8-4158-AEA2-083C028F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814-6D20-4DCF-83EF-8EDF08B5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50A2CC-4B1F-479F-AEAD-D73BED33F444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9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values 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g &lt;- range(wtloss$Days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0.25*(rg[2] - rg[1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ta &lt;- predict(wt.lm1, data.frame(Days = rg[1] + 1:3*del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ta &lt;- diff(e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0 &lt;- as.vector(del*log(2)/log(deta[1]/deta[2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 &lt;- as.vector(coef(lm(Weight ~ I(2^(-Days/t0)), wtloss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it &lt;- c(b0 = ab[1], b1 = ab[2], tau = t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t.nls1 &lt;- nls(Weight ~ b0+b1*2^(-Days/tau), wtloss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rt = init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46115 :   82.51384 101.67121 139.21188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85 :   81.39093 102.66630 141.87092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7  :   81.37376 102.68416 141.91049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B9B8-1C44-493D-85D5-FE6C69508AE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w what happens under extrapolation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50920" y="2421000"/>
          <a:ext cx="5329440" cy="41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421000"/>
                    <a:ext cx="532944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879480" y="1413000"/>
            <a:ext cx="50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mp &lt;- data.frame(Days = 0:7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mp$Weight &lt;- predict(wt.nls1, t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Weight ~ Days, tmp, type="l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8420-1F5D-449F-B6C3-4D2BE56F52E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ementing it inside a fun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val &lt;- function(y, x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g &lt;- range(x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0.25 * (rg[2] - rg[1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m &lt;- lm(y ~ x + I(x^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at &lt;- data.frame(x = rg[1] + 1:3 * de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ta &lt;- predict(fm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ta &lt;- diff(e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0 &lt;- as.vector((del * log(2))/log(deta[1]/deta[2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 &lt;- as.vector(coef(lm(y ~ I(2^( - x/t0))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(b0 = ab[1], b1 = ab[2], tau = t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ith(wtloss, ival(Weight, Days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b0       b1      tau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81.3299 102.7232 142.014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FCCD-23F2-4C36-8354-6D78B821B2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erivativ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 non-linear least squares fitting algorithm can use first derivatives if they are available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 regression function must be an S function that returns the values with the derivatives as an attribute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re is an important tool for doing the differentiation and providing the function in one step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gexp &lt;- deriv(~ b0 + b1*2^(-x/tau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("b0", "b1", "tau"),function(x, b0, b1, tau) {}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t.nls2 &lt;- nls(Weight ~ negexp(Days, b0, b1, tau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tloss, start = with(wtloss, ival(Weight, Days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39.24501 :   81.3299 102.7232 142.014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39.2447  :   81.3740 102.6840 141.9099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39.2447  :   81.37382 102.68412 141.910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6535-779C-4B73-83C3-F6F7F842947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 negex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function (x, b0, b1, tau) {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expr3 &lt;- 2^(-x/tau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value &lt;- b0 + b1 * .expr3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 &lt;- array(0, c(length(.value), 3L), list(NULL, c("b0", "b1", "tau"))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[, "b0"] &lt;- 1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[, "b1"] &lt;- .expr3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[, "tau"] &lt;- b1 * (.expr3 * (log(2) * (x/tau^2))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attr(.value, "gradient") &lt;- .gra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valu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73A-2129-4465-85C0-0348D99D9E3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utting it all together: Self-starte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gression (S-)function may also include an attribute giving an algorithm for finding initial valu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this is possible, it makes fitting such non-linear models very convenient, and if the initial value routine is good, very secur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riting such a self-starting regression function requires us to use some obscure conventions.  This is necessary because it has to cohere to the model fitting function itsel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re about to write a function that will not be called by us, but by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nls()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itsel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8FFF-EB83-4BFF-8B7D-2082D29477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Sival &lt;- function(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mCall, data, LH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 y ~ b0 + b1*2^(-x/tau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x &lt;- eval(mCall[["x"]], da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y &lt;- eval(LHS, da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g &lt;- range(x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0.25 * (rg[2] - rg[1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m &lt;- lm(y ~ x + I(x^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at &lt;- data.frame(x = rg[1] + 1:3 * de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ta &lt;- predict(fm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ta &lt;- diff(e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0 &lt;- as.vector((del * log(2))/log(deta[1]/deta[2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 &lt;- as.vector(coef(lm(y ~ I(2^( - x/t0))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pars &lt;- list(ab[1], ab[2], t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names(pars) &lt;- mCall[c("b0", "b1", "tau")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par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1A3F-EB85-4375-833A-695E76E1B85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ying it ou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Snegexp &lt;- selfStart(model = ~ b0 + b1*2^(-x/tau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itial = SSival, parameters = c("b0", "b1", "tau"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emplate = function(x, b0, b1, tau) {}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t.nls3 &lt;- nls(Weight ~ SSnegexp(Days, a, b, t), wtloss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501 :   81.3299  102.7232  142.0143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7  :   81.3740  102.6840  141.9099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7  :   81.37382 102.68412 141.910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oks pretty good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13C-0A84-4D4D-A00C-CF1BDEB5244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weight loss data: summar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wt.nls3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ormula: Weight ~ SSnegexp(Days, a, b,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arameter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Value Std. Error t valu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  81.374    2.26899 35.863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b 102.684    2.08275 49.302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t 141.910    5.29449 26.803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esidual standard error: 0.894937 on 49 degrees of freedom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orrelation of Parameter Estimate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      b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b -0.989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t -0.986  0.95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6EF4-9655-4E7A-BF94-70A9242F5FB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cond example: Stormer Viscomete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gression is of the for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gnoring the error, simplifying and re-writing giv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st is easy: regress y = wT on x1 = V and x2 = T with no intercep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03640" y="2205000"/>
          <a:ext cx="237636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205000"/>
                    <a:ext cx="23763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059280" y="3573360"/>
          <a:ext cx="3260520" cy="6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3573360"/>
                    <a:ext cx="326052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EEC-EAC9-4628-A266-FEF3499FE36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the weight loss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"/>
          <p:cNvSpPr/>
          <p:nvPr/>
        </p:nvSpPr>
        <p:spPr>
          <a:xfrm>
            <a:off x="676800" y="1413000"/>
            <a:ext cx="41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brary(M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Weight ~ Days, wtlo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5977080" cy="451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473-CA4D-40A4-91FF-8EB2454476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ying out the stormer 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490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Sival.storm &lt;- function(mCall, data, LHS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 y ~ b*x1/(x2-the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1 &lt;- eval(mCall[["x1"]], da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2 &lt;- eval(mCall[["x2"]], da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y &lt;- eval(LHS, da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f &lt;- lsfit(cbind(x1, y), x2*y, int = F)$coef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ames(cf) &lt;- mCall[c("b", "theta")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f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orm &lt;- selfStart(model = ~ b*x1/(x2-theta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itial = SSival.storm, parameters = c("b", "theta"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emplate = function(x1, x2, b, theta) {}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orm.nls1 &lt;- nls(Time ~ storm(Viscosity, Wt, beta, tau), stormer, trace=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85.3645 :  28.875541  2.843728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25.1098 :  29.393464  2.23327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25.0514 :  29.401327  2.21822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25.0514 :  29.401257  2.218274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D054-0B52-456F-8DF3-E9B9992FE33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nfidence interva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rginal intervals are available as estimate 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± 2SE in much the same way as LM/GL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Joint intervals are sometimes useful.  These need to be constructed individual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Profiling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can also be used to find likelihood ratio intervals and to give some idea of joint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ehaviour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of the estimat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m.nls1$call$trace &lt;- FALSE # turn off the trac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(mfrow = c(1,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m.pf &lt;- profile(storm.nls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ot(storm.p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(mfrow = c(1,1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irs(storm.p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AE10-8989-4F37-8E11-D9EF38D07A4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018720" cy="46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6EB-D17D-491C-AD05-77047D56210E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624720" cy="66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117-4962-4453-B8C6-54106B644AB9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ehaviour of the log-likelihood surface near the MLE appears to be quadratic, implying that the approximate confidence intervals are probably reason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parameter estimates are highly correlat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 more detailed behaviour we need to look at the bivariate surface direct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A220-DA41-414F-B1C8-D981DB48947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772400" cy="56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 &lt;- coef(storm.nls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e &lt;- sqrt(diag(vcov(storm.nls1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seq(-5, 5, length = 10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m &lt;- expand.grid(beta = b[1] + del*se[1], tau = b[2] + del*se[2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gfn &lt;- with(stormer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er(Viscosity, Stm$beta)/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er(Wt, Stm$tau, "-"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s &lt;- matrix(stormer$Time, nrow(stormer), nrow(Stm)) - Regfn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m$RSS &lt;- colSums(res*res)/1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m$RSS &lt;- with(Stm, log10(1 + RSS - min(RSS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evelplot(RSS ~ beta + tau, Stm, contour = TRUE, pretty = TRUE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l.regions = rev(heat.colors(100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t &lt;- round(quantile(Stm$RSS,0:10/10),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tourplot(RSS ~ beta+tau, Stm, at=con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FA4-69E6-4C8C-BAFD-66FDF09A8B58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D9A-E739-487B-A841-D3B8431C58AD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00B3-ADDB-4F3B-B014-13783804D96D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otstrap interva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ree possible ways of using bootstrap ideas on non-linear regress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on the observations themselves: Could lead to cases where the model is non-estimab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on the residuals, centred or uncentr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45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“Bayesian bootstrap”: give each observation a variable weight (as the ordinary bootstrap does) and vary the weights.  It can be shown that an exp(1) weight is appropriate.  </a:t>
            </a:r>
            <a:r>
              <a:rPr b="0" lang="en-GB" sz="1800" spc="-1" strike="noStrike">
                <a:solidFill>
                  <a:srgbClr val="3333cc"/>
                </a:solidFill>
                <a:latin typeface="Arial Unicode MS"/>
              </a:rPr>
              <a:t>Rubin, D. B. (1981). The Bayesian Bootstrap. </a:t>
            </a:r>
            <a:r>
              <a:rPr b="0" i="1" lang="en-GB" sz="1800" spc="-1" strike="noStrike">
                <a:solidFill>
                  <a:srgbClr val="3333cc"/>
                </a:solidFill>
                <a:latin typeface="Arial Unicode MS"/>
              </a:rPr>
              <a:t>Annals of Statistics</a:t>
            </a:r>
            <a:r>
              <a:rPr b="0" lang="en-GB" sz="1800" spc="-1" strike="noStrike">
                <a:solidFill>
                  <a:srgbClr val="3333cc"/>
                </a:solidFill>
                <a:latin typeface="Arial Unicode MS"/>
              </a:rPr>
              <a:t>, </a:t>
            </a:r>
            <a:r>
              <a:rPr b="1" lang="en-GB" sz="1800" spc="-1" strike="noStrike">
                <a:solidFill>
                  <a:srgbClr val="3333cc"/>
                </a:solidFill>
                <a:latin typeface="Arial Unicode MS"/>
              </a:rPr>
              <a:t>9</a:t>
            </a:r>
            <a:r>
              <a:rPr b="0" lang="en-GB" sz="1800" spc="-1" strike="noStrike">
                <a:solidFill>
                  <a:srgbClr val="3333cc"/>
                </a:solidFill>
                <a:latin typeface="Arial Unicode MS"/>
              </a:rPr>
              <a:t>, 130-1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6F3F-F680-4974-8E36-EE2EA2B4C78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demonstration: the weights are “about right”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 &lt;- v &lt;- numeric(10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(j in 1:100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am &lt;- factor(sample(1:50, 50, rep = T), levels = 1:5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am &lt;- table(s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[j] &lt;- mean(s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[j] &lt;- var(s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an(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an(v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.01306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v &lt;- rexp(5000, 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an(rv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0.989904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ar(rv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0.962308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B4F-F753-4B47-8B67-228A577E26A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atural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olynomial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Quadratic – too pessimistic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ubic – no evidence yet of an inflex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dvantage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me evidence from dietary the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ear advantages in short-term extrapol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isadvantage: harder to fi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32000" y="3573360"/>
          <a:ext cx="460836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573360"/>
                    <a:ext cx="46083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D93-DC6C-43FE-A302-BDF3D44943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ying it ou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 &lt;- matrix(NA, 1000, 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(i in 1:1000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 &lt;- rexp(nrow(stormer),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p &lt;- try(update(storm.nls1, weights = w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class(tmp)[1] != "try-error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[i,  ] &lt;- coef(tmp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&gt; colMeans(B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1] 29.344850  2.27803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&gt; var(B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,1]       [,2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1,]  0.3468216 -0.309030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2,] -0.3090304  0.371859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14B-77DD-4AC5-8B9D-F795654DC87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2400" cy="54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B1 &lt;- matrix(NA, 1000, 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s &lt;- scale(resid(storm.nls1), scale = F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yt &lt;- stormer$Time - r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i in 1:1000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hisY &lt;- as.vector(yt + sample(rs, rep = T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mp &lt;- try(update(storm.nls1, ThisY ~ .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if(class(tmp)[1] != "try-error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B1[i,  ] &lt;- coef(tmp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&gt; colMeans(B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1] 30.10174  1.9471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&gt; var(B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,1]       [,2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1,]  0.7475719 -0.495094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2,] -0.4950940  0.3882688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971E-FD3B-498F-9CD1-0A9F7664F70D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Final comparis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apply(B, 2, quantile, c(1, 39)/4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,1]      [,2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.5%  28.09367 0.932128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97.5% 30.52142 3.380051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apply(B1, 2, quantile, c(1, 39)/4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,1]      [,2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.5%  28.37939 0.723661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97.5% 31.69766 3.111560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tau &lt;- qt(0.975, nrow(stormer)-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b &lt;- coef(storm.nls1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se &lt;- sqrt(diag(vcov(storm.nls1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rbind(b - tau*se, b + tau*s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eta      tau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,] 27.49730 0.83424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2,] 31.30521 3.60230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6136-305F-4479-B091-D7357AC6F0D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regression offers a way of integrating empirical and “process”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kinds of non-linear regression are to be repeatedly done, some investment in selfStart models pays of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confidence intervals for the parameters can be relatively straightforward, if the model is small and the data set manage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"Tests of fit" are not automatically available.  Graphical examination of residuals is important here, as elsewhe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0B9-5EFD-40CC-955C-21327BCE458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empirical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.lm1 &lt;- lm(Weight ~ poly(Days, 3), wtlo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 &lt;- with(wtloss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.frame(Days = seq(min(Days), max(Days), len = 1000), Weight = NA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 &lt;- rbind(Wtloss, wtlo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 &lt;- Wtloss[order(Wtloss$Days), 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$pWeight &lt;- predict(wt.lm1, Wtlo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brary(lattic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Weight ~ Days, Wtloss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ines(x, Wtloss$pWeight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8582-229C-4DAF-A32A-2984CF34689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4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0268-9BAB-4F9C-A940-780CB2E653BA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What happens under extrapolation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"/>
          <p:cNvSpPr/>
          <p:nvPr/>
        </p:nvSpPr>
        <p:spPr>
          <a:xfrm>
            <a:off x="523080" y="12477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0:700, predict(wt.lm1, data.frame(Days = 0:70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ype = "l", xlab = "Days", ylab = "Weight", col = "r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ith(wtloss, points(Days, Weight, pch = 4, col = "blue"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7158" r="0" b="0"/>
          <a:stretch/>
        </p:blipFill>
        <p:spPr>
          <a:xfrm>
            <a:off x="1692360" y="2205000"/>
            <a:ext cx="575928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70CC-F7E9-4417-A8C6-FC220D7E64B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values 1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rst algorithm: guess them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.nls0 &lt;-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ls(Weight ~ b0 + b1 * 2^( - Days/tau), wtloss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art = c(b0 = 70, b1 = 122, tau = 150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769.5897  :   70 122 150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42.10227 :   81.57397 102.48311 142.58520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39.24473 :   81.3761  102.6819  141.9020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39.2447  :   81.3738  102.6841  141.9104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0352-C4A0-486F-ABE5-D46F597EC5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Extrapolation under the non-linear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0" name=""/>
          <p:cNvSpPr/>
          <p:nvPr/>
        </p:nvSpPr>
        <p:spPr>
          <a:xfrm>
            <a:off x="504000" y="11253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ines(0:700, predict(wt.nls0, data.frame(Days = 0:70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l = "green4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h = coef(wt.nls0)[1], lty = "dashed", col = "blu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2128680"/>
            <a:ext cx="6264360" cy="472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763-9D5F-476A-A360-C238E07695C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values 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cond algorithm: calculate approximate valu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00000" y="2492280"/>
          <a:ext cx="4392720" cy="31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92280"/>
                    <a:ext cx="439272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AF9-5334-4506-9829-D32786EC956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21T02:26:14Z</dcterms:modified>
  <cp:revision>27</cp:revision>
  <dc:subject/>
  <dc:title>S-PLUS, An Introduction to the System</dc:title>
</cp:coreProperties>
</file>