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926-E4EC-4DD9-A0F8-888393AD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CAE-E72A-426F-BD3A-1BAB4390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F91-7A7B-482D-AEC8-900C7C5D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7F2-49EC-48EA-8240-0ED1CD7F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9ED-BE57-4C83-B340-EC643793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858-E8DC-4E2C-B024-C9BCBEB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F03-B6CA-4B62-A8DD-4515D787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AD1-0386-430C-8643-4DD26436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CFD-A695-4F22-9E0C-E4ADF1E7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965-D15F-4827-81CB-0BD65B1D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E9A5-E425-4D84-8C6B-F4FC935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2C2-8061-471C-BFF3-1EC72C8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F69B4C-958A-4CB8-A1DF-94A9A27E72BB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6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inear Models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n 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udworm.lg &lt;- glm(SF ~ sex/ldose, family = binomial, data = Budworms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4.9937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budworm.lg, cor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  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-2.9935418  0.5526997 -5.4162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  0.1749868  0.7783100  0.22482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Fldose  0.9060364  0.1671016  5.422067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Mldose  1.2589494  0.2120655  5.936606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Binomial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603-D033-421A-89BF-684FBA1EB01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playing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udworm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c(1,32), c(0,1), type = "n", xlab = "dose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 = "x", axes = F,ylab = "Pr(Death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1, at = 2^(0: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1:6], numdead[1:6]/20, pch = 4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7:12], numdead[7:12]/20, pch =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 &lt;- seq(0, 5, length =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M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col = 3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F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lty = 2, col = 2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8D6-796B-4C42-877F-9CB2B13A501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0"/>
          <a:ext cx="7380360" cy="68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7380360" cy="68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4761-AC3C-4B99-A0B6-7A1A3C8BB0EB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s sex significant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is is a marginal term and so its meaning has to be interpreted carefully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Watch what happens if ldose is re-centr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A &lt;- update(budworm.lg, . ~ sex/I(ldose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- 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budworm.lgA, cor = F)$coefficien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 Error   t 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0.2754324  0.2305173 -1.19484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  1.2337258  0.3769761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3.2726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FI(ldose - 3)  0.9060364  0.1671016  5.42206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MI(ldose - 3)  1.2589494  0.2120655  5.93660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DA7-48B2-4ED9-9396-DB9C01BBB0C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curvatur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nova(update(budworm.lgA, . ~ . + sex/I((ldose - 3)^2)), test = "Chisq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3.1802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21.81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18.799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added sequentially (first to las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Deviance Resid. Df Resid. Dev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LL                    11   124.8756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ex  1   6.0770        10   118.7986 0.013695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ldose - 3) %in% sex  2 113.8049         8     4.9937 0.000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(ldose - 3)^2) %in% sex  2   1.8221         6     3.1716 0.402103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61A-387B-43AA-9751-099A1D90C3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final model: parallelis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0 &lt;- glm(SF ~ sex + ldose - 1, family = binomial, Budworm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6.807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budworm.lg0, budworm.lgA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rms Resid. Df Resid. De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sex + ldose - 1         9   6.757064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sex + I(ldose - 3) %in% sex         8   4.99372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st Df Deviance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vs. 2  1 1.763337 0.184208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BEDD-FB82-4F20-B061-29106CFA351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ffective dosages (V&amp;R p193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dose.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obj, cf = 1:2, p = 0.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ta &lt;- family(obj)$link(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 &lt;- coef(obj)[cf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.p &lt;- (eta - b[1]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x.p) &lt;- paste("p = ", format(p), ":", sep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d &lt;-  - cbind(1, x.p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E &lt;- sqrt(((pd %*% vcov(obj)[cf, cf]) * pd) %*% c(1, 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 &lt;- structure(x.p, SE = SE, p = 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dClass(res) &lt;- "glm.dose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print.glm.do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 &lt;- cbind(x, attr(x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mnames(M) &lt;- list(names(x), c("Dose"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&lt;- M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extMethod("print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B54-EED5-4B1B-BBE4-844EB29E1A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e.p(budworm.lg0, cf = c(1, 3), p = 1:3/4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Dose        SE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25: 2.231265 0.249908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50: 3.263587 0.229753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75: 4.295910 0.274687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D1B-192D-4E33-AC1A-373EB33FA3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econd example: low birth weigh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irth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ce &lt;- factor(race, labels = c("white", "black", "other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ptl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59 24 5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td &lt;- factor(ptl &gt; 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 2 3 4 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30 7 4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v &lt;- factor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evels(ftv)[ - (1:2)] &lt;- "2+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4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wt &lt;- data.frame(low = factor(low), age, lwt, race, smoke = (smoke &gt; 0), ptd, ht = (ht &gt; 0), ui = (ui &gt; 0)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m(race, ptd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581-5041-43BF-B68C-417846006A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188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 &lt;- glm(low ~ ., family = binomial, data = 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birthwt.glm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4755 217.4755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  1 196.4174 216.4174 0.941876 0.33179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wt  1 200.9495 220.9495 5.473941 0.019302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ce  2 201.2268 219.2268 5.751273 0.05638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moke  1 198.6738 218.6738 3.198241 0.073717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td  1 203.5841 223.5841 8.108539 0.004405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ht  1 202.9339 222.9339 7.458402 0.006314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ui  1 197.5855 217.5855 2.109974 0.14634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tv  2 196.8337 214.8337 1.358185 0.507076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29C-36BE-4206-94FC-F47B7FEDBA7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e of the generaliz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gle response variable,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candidate 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only depend on the predictors through a single linear fun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belongs to the GLM family of distribu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may (or may not) be an unknown scale paramet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19280" y="3357720"/>
          <a:ext cx="482436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57720"/>
                    <a:ext cx="482436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B53-CFAB-4A38-99CF-E79B8DB252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action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revious model output suggests removing fitv and age.  This is confirmed by successive dele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at happens, though, when we check for interactions between factors and curvatures in the numeric predictor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49D-B014-4630-B2E7-A161FECC473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 &lt;- stepAIC(birthwt.glm,  ~ .^2 + I(scale(age)^2) + I(scale(lwt)^2), trace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$anov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wise Model Pat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 Df Deviance Resid. Df Resid. Dev      AIC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                 178   195.4755 217.475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 + age:ftv  2 12.47490       176   183.0006 209.0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+ smoke:ui  1  3.05681       175   179.9438 207.943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    - race  2  3.12959       177   183.0734 207.07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ADD9-28E4-47A2-B8AA-3EDA1A0740B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model: two important intera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birthwt.step2, test = "Chisq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f Deviance      AIC      LRT    Pr(Chi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&lt;none&gt;    183.0734 207.0734    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wt  1 191.5590 213.5590  8.48561 0.003579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td  1 193.5880 215.5880 10.51462 0.00118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ht  1 191.2108 213.2108  8.13743 0.0043360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ge:ftv  2 199.0029 219.0029 15.92950 0.000347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moke:ui  1 186.9861 208.9861  3.91270 0.0479224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E9F-421E-4C81-BFC9-70FACEB18A0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linearity o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ge</a:t>
            </a: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 withi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tv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alternative to the method given in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dea is to fit separate spline terms within the level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tv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but keeping all other important terms (including interactions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hat spline terms be chosen with enough knots to allow non-linear behaviour to become apparent, but not so much that the fit becomes nearly indetermin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72E-48FB-41AB-8A65-95321D210C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ttach(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BWT &lt;- expand.grid(age=14:45, lwt = mean(lwt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race = factor("white", levels = levels(rac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moke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td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ht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ui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ftv = levels(ftv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Age &lt;- function(x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(x, knots = quantile(bwt$age, 1:2/3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undary.knots = range(bwt$age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2 &lt;- glm(low ~ lwt + ptd + ht + smoke * ui + ftv/nsAge(age), binomial, bwt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b &lt;- predict(birthwt.glm2, BWT, type = "resp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plot(prob ~ age | ftv, BWT, type = "l"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set = smoke == F &amp; ptd == F &amp; ht == F &amp; ui == F, as.table = T, ylim = c(0, 1), ylab = "Pr(Low bwt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042-42A9-4106-A43A-D4AD55B9DC5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404640"/>
          <a:ext cx="792180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792180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72D-CDA6-4072-950C-14CC74727196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tributions in the GLM fami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rdinary linear model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, probit analysi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-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lognorm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gative Binomial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5AB-B825-4C11-9BD3-E7A1A6EC45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k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assumed that the linear predictor determines the mean of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ear predictor is unbounded, but the mean of some of these distributions (e.g. binomial) is restric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ean is assumed to be a (monotone) function of the linear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nverse of this function is called the link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ing a link is often the first problem in constructing a GL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788E-E410-43D1-A2FF-D2C067543A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– Identity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 – Logistic or Probit lin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 – Log or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– log or inverse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the binomial distribution the response is taken as the proportion of cases responding.  Thus the mean lies between 0 and 1.  The logistic link u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8360" y="5084640"/>
          <a:ext cx="48247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084640"/>
                    <a:ext cx="4824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87B-20EF-4BED-A75E-0F6DF2ADD6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y is the link function defined ‘backwards’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istorical reason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theory was developed as a replacement for an older approximate theory that used transformations of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k function is defined in the same sense, but the data are never transformed.  The connection is assumed between parameter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newer theory produces exact MLEs, but apart from the normal/identity case, inference procedures are still somewhat approxim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416-C685-4CCF-B191-12CA22574D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acti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tructing GLMs in S-PLUS is almost entirely analogous to constructing L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is by iteratively weighted least squares, so some care has to be taken that the iterative scheme has converg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tools exist for manual and automated variable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are differences.  e.g. the residuals function distinguishes four types of residual which all coincide in the case of linear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44E-964C-4AC5-94B9-BF8405FA24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The budworm data – a toxicological experiment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1341360"/>
          <a:ext cx="7770600" cy="4746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4120"/>
                <a:gridCol w="1554120"/>
                <a:gridCol w="15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101B-55B7-418A-ADEE-B755E737274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xample: Budworm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paring the data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dose &lt;- rep(0:5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umdead &lt;- c(1, 4, 9, 13, 18, 20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0, 2, 6, 10, 12, 16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ex &lt;- factor(rep(c("M", "F"), each = 6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F &lt;- cbind(numdead, numalive = 20 - numdead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 &lt;- data.frame(ldose, se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$SF &lt;- S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m(sex, ldose, S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970-1F3D-4BCC-9951-2396E253E6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14T02:14:34Z</dcterms:modified>
  <cp:revision>15</cp:revision>
  <dc:subject/>
  <dc:title>S-PLUS, An Introduction to the System</dc:title>
</cp:coreProperties>
</file>