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4A80-9882-49E3-AFF5-8AA2C722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F92-3FA4-4FC2-9CEA-64E7E9DD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3F5-150B-4CC6-930C-E6D35CD5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FAB-D8B9-4E23-8F01-894A8F4D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32B-666E-4049-BBD9-D67A988D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9A1-BAC4-43E1-95B7-B09F381E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055-9044-4418-9958-1FD9775D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B18A-D6E0-4A26-94E2-AD2DF7CC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A69-FDC4-43F4-8931-7CAAA4FB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4F3-7F17-48BB-BD01-1746BFBB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1BEE-CD92-4FAC-AB3F-87E8E85F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C58A-2DD2-4C5F-94B1-4AA5D0C4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A6D2864-469B-4569-899A-5526CE3CCF05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on mixed effects modell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115920"/>
          <a:ext cx="799308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9308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F11-C189-4BDC-A5D7-072E31A8E3C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84360" y="115920"/>
          <a:ext cx="7704000" cy="59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5920"/>
                    <a:ext cx="7704000" cy="59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FB3-8AF2-4A0A-9FF6-D5289FD3FD82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Variance compon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GLMM.Alcyonacea, corr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ta: Bentho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IC      BIC    logLik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338.8218 371.0074 -157.41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667752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Plot %in%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Residual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5896012 2.5099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riance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fixed weight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invwt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Alcyonacea ~ Topography + I(Impact * cbind(nsi(Intensity),    bin(Time))) + offset(log(SweptArea)) 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15B9-B63B-42AF-BC51-2AAA3C4817D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produces a result where the components of variance are smaller than the underlying Poisson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useful way of isolating various parts of the model to reveal (perhaps speculatively!) the fixed patter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ood way of handling overdispersion – close connection between GLMMs and Negative Binomi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ill somewhat controversial.  The inference process is still a matter of deb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6190-366D-4C27-A51E-FB4FA79148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ird non-linear example: the muscl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92360" y="2193840"/>
          <a:ext cx="561636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93840"/>
                    <a:ext cx="561636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303920" y="1427040"/>
            <a:ext cx="626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log(Length) ~ Conc | Strip, muscle, as.table = 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EB5-3A44-43E5-BA8D-52C831ACBC2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fit: fixed effects on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ggested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43 parameters with only 61 points.  Special care needs to be taken with fitting th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“plinear” algorithm both to simplify the model specification and to make the fitting process more robu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ed to specify the non-linear parameters on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n re-fit the model in a standard way to simplify predictions from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79640" y="2060640"/>
          <a:ext cx="475308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060640"/>
                    <a:ext cx="4753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55D-A70D-455C-A436-1E7E5E46FE8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model.matrix(~Strip - 1, muscle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1 &lt;- nls(log(Length) ~ cbind(X, X*rho^Conc), muscle, start = c(rho = 0.1), algorithm = "plinear"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as.vector(coef(muscle.nls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it &lt;- list(rho = b[1]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lpha = b[2:22], beta = b[23:43]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2 &lt;- nls(log(Length) ~ alpha[Strip] + beta[Strip]*rho^Conc, muscle, start = ini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7204-4401-42CB-B478-2CCCD01DC91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 and presentation of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expand.grid(Conc = seq(0.25, 4, len=20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p = levels(muscle$Strip), Length = 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rbind(muscl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Muscle[order(Muscle$Strip, Muscle$Conc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fit &lt;- predict(muscle.nls2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fit ~ Conc|Strip, Muscle, type = "l"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D85E-6057-4A82-8AD3-1E9519D2A7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7AF-92DB-4247-8732-2A667C971029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mixed effect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0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.nlme &lt;- nlme(log(Length) ~ alpha + beta*rho^Conc, muscl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xed = rho+alpha+beta ~ 1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dom = alpha + beta ~ 1|Strip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va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RandomFit &lt;- predict(muscle.nlm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RandomFit ~ Conc|Strip, Muscle, type = "l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ines(x, Muscle$fit[subscripts]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06F-0356-4534-A897-8DCC39B96B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Generalized Linear Mix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overy of the benthos after trawling on the Great Barrier Reef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6 Control plots, 6 Impact plo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isited 2 times prior to treatment and 4 times afterwards – longitudinal stu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pection is by Benthic sled.  The total number of animals of each species is counted for each trans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 trawl intensity in the transe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tal ‘swept area’ of the sled video camer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pography (Shallow or Deep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B3F-3FB3-47D3-8082-026529BE0F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B24-FE4A-43FF-99AE-23A954A41E53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muscle.nlm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on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 log(Length) ~ alpha + beta * rho^Conc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list(alpha ~ 1, beta ~ 1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vel: Stri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     Corr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  0.16991613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   0.88268573 0.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idual 0.07692169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rho + alpha + beta ~ 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lue  Std.Error DF  t-value p-valu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 0.094083 0.01349832 37  6.96996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3.363546 0.04486974 37 74.96247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-2.817441 0.29503865 37 -9.54940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Correlation: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0.371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0.546 0.2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andardized Within-Group Residual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          Q1         Med          Q3         Max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-1.66713635 -0.34229465 -0.08582487  0.35210281  2.843345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Observations: 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Groups: 2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AAF0-65D6-4672-81D6-6E5ADFFD434D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plinear” algorithm offers an effective way of using the simplicity of linear paramete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effects can be very tricky, but offer a way of “borrowing strength” from one group to another, in order to gain a more holistic representation of the process generating th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D77-999E-47C5-A0C5-A946C0EEA1C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each species the total count for a control or pre-experiment treatment plot has a distribution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a post-experiment treatment plot the distribution is similar, but the Poisson mean has additional term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extra terms are a spline term in mean trawl intensity and a factor term to allow for recove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2781360"/>
          <a:ext cx="784836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81360"/>
                    <a:ext cx="78483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89080" y="4307040"/>
          <a:ext cx="669780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4307040"/>
                    <a:ext cx="6697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FBF-4294-42F9-9C05-12C84AB88D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functions an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Species &lt;- scan("SpeciesNames.csv", what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match(Species, names(Bentho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bin &lt;- function(fac, all = F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binary matrix for a factor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ac &lt;- as.factor(fac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X &lt;- outer(fac, levels(fac), "==") +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if(all) X else X[, -1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i &lt;- function(x, k = 3, Intensity = Benthos$Intensity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natural spline in intensit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knots &lt;- as.vector(quantile(unique(Intensity), 0:k/k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(x, knots = knots[2:k], Boundary.knots = knots[c(1, k + 1)]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uard &lt;- function(x) ifelse(x &lt; -5, NA, 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456-54DE-44E7-AE0B-6A6D7261B2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tting up the prediction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rs &lt;- c("Cruise", "Plot", "Months", "Treatme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"Time", "Impact", "Topography", "Unity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with(Benthos, tapply(Intensity, Impact, mean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sa &lt;- mean(Benthos$SweptAre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transform(Benthos[, vars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nths = as.numeric(as.character(Months)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ntensity = vals[factor(Impact)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weptArea = rep(msa, nrow(Bentho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newData[order(Benthos$Months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DB0-E894-4B9D-B430-251329AEB2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key spec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nt(Species, quot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] Alcyonacea                Annella.reticulata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3] Ctenocella.pectinata      Cymbastela.coralliophil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5] Dichotella.divergens      Echinogorgia.sp.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7] Hypodistoma.deeratum      Ianthella.flabelliformis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9] Junceella.fragilis        Junceella.juncea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1] Nephtheidae               Porifera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3] Sarcophyton.sp.           Scleractinia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5] Solenocaulon.sp.          Subergorgia.suberosa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7] Turbinaria.frondens       Xestospongia.testudinaria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are names of some columns in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nthos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data fram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need to fit the master model for each and produce plots of the fixed and random eff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CA6-E3B3-488A-B10A-872F8D1FB8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trick: fitting multiple similar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itCommand &lt;- Quote(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m &lt;- glmmPQL(Species ~ Topography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ff0000"/>
                </a:solidFill>
                <a:latin typeface="Courier New"/>
              </a:rPr>
              <a:t>I(Impact * cbind(nsi(Intensity), bin(Time)))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offset(log(SweptArea)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andom = ~1|Cruise/Plo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amily = poisson, data = Benthos, verbose = 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AD4-5BBF-4230-B2C7-A213A923C6A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the trick to wor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pno &lt;-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start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name &lt;- paste("GLMM", Species[spno], sep=".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name &lt;- Species[spno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hisFitCommand &lt;- do.call("substitute", list(fitCommand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st(fm = as.name(mname), Species = as.name(sname)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eval(thisFitCommand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int(spno &lt;- spno +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end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objects(pat = "GLMM.*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GLMM.Alcyonacea"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] "GLMM.Annella.reticulata"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3] "GLMM.Ctenocella.pectinata"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4] "GLMM.Cymbastela.coralliophila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3044-331B-4115-8209-90D569ADBFA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 &lt;- predict(GLMM.Alcyonacea, newData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0 &lt;- predict(GLMM.Alcyonacea, newData, level=0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aphics.off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ellis.device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guard(pfm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log(mean)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and random effects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exp(pfm0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mean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effects only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A98-03EF-44E7-BF5A-68F03B37B0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12Z</dcterms:modified>
  <cp:revision>18</cp:revision>
  <dc:subject/>
  <dc:title>S-PLUS, An Introduction to the System</dc:title>
</cp:coreProperties>
</file>