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5570-B743-43C4-995E-1499E1BB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DCB-4E3A-4F5A-934B-D05B42BB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632A-A018-4AEF-8BCA-8268D187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6A0-E051-477D-9B63-F0ABAB47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A78-EFEF-4975-AB9C-7A6E87AD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FDC-EDF6-4EE1-93A1-B73431D6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A03-F7A3-4EBF-9C7E-41E59ED4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A1F-9DF7-4CEB-BBA7-0C9AA753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4BB-B6F0-4F3C-A0E0-002542A7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B33-AFD0-4677-8AD3-3199A09C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562-C50C-453F-8A54-6188E80C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775F-97CA-40B8-A755-69B1F0E4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2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76CEEE-0448-46F3-B60A-DD96674D0A9F}" type="slidenum">
              <a:rPr b="1" lang="en-GB" sz="12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attice Graphics: A closer loo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anging Lattice parameters and adding key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hen a Lattice device is opened, it has various colours, line-types, plotting symbols, &amp;c associated with it that any printing of Lattice objects will us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ou can change these choices – but it gets messy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ou need to know how to access this scheme if you want to set a key saying what’s wha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est to keep an example on hand that works and re-read the help information with this example in min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808-9C8B-4B02-A13F-F9BEAEC35B6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Getting and setting Lattice pa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ellis.device(x1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 &lt;- trellis.par.get("superpose.symbol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$cex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[1] 0.8 0.8 0.8 0.8 0.8 0.8 0.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$pch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[1] 1 1 1 1 1 1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$pch &lt;- 1: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ellis.par.set("superpose.symbol", sp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D75D-D363-49D5-A91F-DA78F33EBFD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Stormer viscometer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32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Dependent variable: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Tim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Independent variables: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Viscosity, Weigh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oretic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Plotting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Time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Viscosity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 should give straight lines with slope depending on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Weight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Time ~ Viscosity, stormer, groups = Wt, type = "b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"Stormer viscometer calibration data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v.off(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97080" y="2604960"/>
          <a:ext cx="237636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2604960"/>
                    <a:ext cx="237636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5D5-D76C-41A0-8A4C-29D88A3491B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54D-98C4-4CC0-885C-E95599CF5F9A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the ke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xyplot(Time ~ Viscosity, stormer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groups = W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type = "b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AU" sz="3200" spc="-1" strike="noStrike">
                <a:solidFill>
                  <a:srgbClr val="000000"/>
                </a:solidFill>
                <a:latin typeface="Courier New"/>
              </a:rPr>
              <a:t>auto.key = TRUE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"Stormer viscometer calibration data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B696-1260-44C1-BFD2-FC32D8A5A84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D6E-AB23-4277-8B38-67BC83DCD638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rtificial example: adding fitted valu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 &lt;- data.frame(x = rep(1:20, 10)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 = factor(rep(LETTERS[1:10], each = 20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$y &lt;- (dummy$x - 10.5)^2 + rnorm(100, sd = 5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y ~ x | f, dummy, as.tabl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m &lt;- lm(y ~ f + poly(x, 2), dummy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$fitted &lt;- fitted(fm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y ~ x | f, dummy, as.table = T, subscripts = T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epanel = function(x, y, subscripts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st(xlim = range(x)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ylim = range(y, dummy$fitted[subscripts]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x = diff(range(x)), dy = diff(range(y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spline(x, dummy$fitted[subscripts]), col = 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, aspect = "xy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71E-124A-4A7E-84A8-16357BDC667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493236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3236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419640" y="2252520"/>
          <a:ext cx="515304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2252520"/>
                    <a:ext cx="515304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746-B42A-4578-945B-E1F08929EDEE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three-dimensional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ind("volcano.S")  </a:t>
            </a:r>
            <a:r>
              <a:rPr b="0" lang="en-GB" sz="1400" spc="-1" strike="noStrike">
                <a:solidFill>
                  <a:srgbClr val="ff0000"/>
                </a:solidFill>
                <a:latin typeface="Courier New"/>
              </a:rPr>
              <a:t># courtesy Ross Ihak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"package:datasets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"matrix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gt; dim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87 6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# volcano &lt;- as.matrix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 &lt;- 10*(1:nrow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y &lt;- 10*(1:ncol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dat &lt;- transform(expand.grid(x = x, y = y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 = as.vector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age.palette(heat.colors(256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evelplot(v ~ x*y, vdat, main = "Maunga Whau Volcano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age.palette(topo.colors(256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wireframe(v ~ x*y, vdat, drape = T, main = "Maunga Whau Volcano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C91C-2D38-46B6-861E-D4887D56959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levelplot(v ~ x*y, vda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heat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levelplot(v ~ x*y, vdat, contour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pretty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topo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wireframe(v ~ x*y, vdat, drape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terrain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C27-F56D-4404-BB3A-AA6BF457614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ernative to traditional graphics, but based on it and roughly parallel to i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mplementing the ideas of Bill Cleveland, and simplest to use when defaults are appropriat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cremental construction is not feasible: the entire object must be constructed in a seamless oper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unctions generate Lattice objects; it is the printing of these objects that produces graphical outpu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attice objects may be updated, but this is not often necessa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st of functions – page 91 of 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D88-AE4A-476B-9B19-CF3F8B3496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A957-D5F9-44F0-83F5-98886C5C0A2F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B2A-1150-4462-AAB2-DE97979E1474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5DC-D074-478E-BBEF-49F445AE787C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ynamic vers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equire(rg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 &lt;- 2 * volcano     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Exaggerate the relief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x &lt;- 10 * (1:nrow(z))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10 meter spacing (S to N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y &lt;- 10 * (1:ncol(z))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10 meter spacing (E to W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lim &lt;- range(z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len &lt;- zlim[2] - zlim[1] +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orlut &lt;- topo.colors(zlen)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color lookup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 &lt;- colorlut[ z-zlim[1]+1 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assign colors to heights for each poin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pen3d(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urface3d(x, y, z, color=col, back="line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7DEC-FD63-4EED-8579-C2C150F88AC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258C-A97A-4FBC-917C-F0D8034CB7C8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A66-E9A1-4319-8C88-C547F0AE5C64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E04-1CE5-4353-912B-257EC48B34B6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imple example: the Whitesid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MA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ames(whitesid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] "Insul" "Temp"  "Gas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col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as.table = T, aspect = 0.6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adily apparent that insulation reduces the need for heating gas, but the slope is less negative with increasing temperatur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505-D10C-45D0-BE07-F222D49604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063A-64AF-42E9-BEA9-0AA220B70534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ll in one cal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 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as.table = TRUE, aspect = 0.61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im = c(0, max(whiteside$Gas)+0.5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lab = "Temperature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"Whiteside data on domestic gas consumption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ayout = c(2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774-1509-40B2-B28B-E23FA5F8B8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tra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ke sure the y-axis has a zero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im = c(0, max(whiteside$Gas))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ive proper labels to the x- and y-axes and add a main label at the top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lab = "Temperature"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ain =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Whiteside data on domestic gas consumption"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de-by-side layout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ayout = c(2,1)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4E41-195E-43E6-A4DF-E5E93DBC89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19279" r="0" b="22570"/>
          <a:stretch/>
        </p:blipFill>
        <p:spPr>
          <a:xfrm>
            <a:off x="611280" y="620640"/>
            <a:ext cx="8064360" cy="468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3D07-0E65-45E3-A7BE-ED1CFD58BAB3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e-linking the sca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lab = "External temperature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"Whiteside heating data", aspect = 0.6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..., col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scales = list(relation = "free"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plot is now almost misleading!  Where possible make full use of linked scales in the panel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D0A-A60E-4973-951C-66ECDFCDEE5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104-B6A3-4B72-9A4E-8BE72AF3D7F7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7T00:36:20Z</dcterms:modified>
  <cp:revision>18</cp:revision>
  <dc:subject/>
  <dc:title>S-PLUS, An Introduction to the System</dc:title>
</cp:coreProperties>
</file>