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F2D-6D69-4AC7-8E9C-D2DFA2F2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4C1F-1D10-4CF9-B66B-0FC29770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B34-0C18-49AB-B250-ADEEA727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0E6-87F0-4C5B-AE00-B71F6EE5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A11-04F4-4C85-8F25-A15E10D0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50D-6EB6-40F7-A96A-F60E746B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7DAA-C87C-414D-9121-F65FF8DF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7FD-37D1-4E3C-AE0C-9B15BAAE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A0C-31D1-460E-BAF1-6408358A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A86-5545-4A94-8446-90A4155A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9FD8-C7D8-432B-A42D-033303A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B74F-6FD8-4E00-8C64-8E716D4F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1383945-503D-474B-BB1A-67DA303421A0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4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emystifying Neural Networ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irth weight example, continued.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t up train/test and start with a parametric model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b1 &lt;- sample(1:nrow(bwt), 100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wt.train &lt;- bwt[sb1, 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wt.test &lt;- bwt[ - sb1, 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train &lt;- update(tst1, data = bwt.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tst &lt;- predict(bm.train, bwt.test, type = "resp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class &lt;- round(bm.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bm.class, bwt.test$low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b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0 57 1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  6 1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062-93DD-4F08-B415-CCDFD9659DA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w consider a tree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tre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train &lt;- tree(factor(low) ~ race + smoke + age + ptd + ht + ui + ftv, bwt.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cv.tree(tm.train, FUN = 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train &lt;- prune.tree(tm.train, best = 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class &lt;- predict(tm.train, bwt.test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tm.class, bwt.test$low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0 40 1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 23 1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727-20CB-4A13-80C3-F8EF0B75BA3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initial explorations of a N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Not clear what degree of non-linearity is warranted, but try some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0 &lt;- max(abs(model.matrix( ~ race + smoke + age + ptd + ht + ui + ftv, bwt.train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m.train &lt;- nnet(low ~ race + smoke + age + ptd + ht + ui + ftv, data = bwt.train, size = 3, entropy = T, rang = 1/X0, skip = T, decay = 0.01, trace = T, maxit = 10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4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68.527783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52.90699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20 value 48.31932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290 value 25.68342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300 value 25.68339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25.683390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A59-F21F-49FC-8F6F-A59AF23EB9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est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Normalisations are somewhat tediou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m.tst &lt;- predict(nm.train, newdata = bwt.test, type = "raw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m.class &lt;- round(nm.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nm.class, bwt.test$low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n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0 49 1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1 14 1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stPred2(nm.train, bwt.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[1] 35.9550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284-0B7D-4017-8183-C2AE80B45C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A more challenging test: credit card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C.nnet &lt;- nnet(credit.card.owner ~ ., CCTrain, size = 7, rang = 2e-7, skip = T, decay = 0.05, trace = T, maxit = 1000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nne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[1] 15.9259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 Unicode MS"/>
              </a:rPr>
              <a:t>Not as good as random forests, better than trees and parametric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8A8-F7FE-4590-A297-35C76946E1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input node for every determining vari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pecified number of internal nod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output node for each component of the resul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m linear functions of the input variables for each internal lay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ansform and form linear functions for each node of the output lay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dd in ‘skip layer’ linear functions and transform aga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4360" y="5084640"/>
          <a:ext cx="7704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084640"/>
                    <a:ext cx="7704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9E6-02BF-4AE0-B577-D3E2E188C4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126828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1916280"/>
            <a:ext cx="433080" cy="431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56536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321300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393372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184464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256536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3284640"/>
            <a:ext cx="433080" cy="431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184464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21300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8" idx="6"/>
            <a:endCxn id="53" idx="2"/>
          </p:cNvCxnSpPr>
          <p:nvPr/>
        </p:nvCxnSpPr>
        <p:spPr>
          <a:xfrm>
            <a:off x="2268000" y="1483920"/>
            <a:ext cx="1512360" cy="577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0" name=""/>
          <p:cNvCxnSpPr>
            <a:stCxn id="48" idx="6"/>
            <a:endCxn id="54" idx="1"/>
          </p:cNvCxnSpPr>
          <p:nvPr/>
        </p:nvCxnSpPr>
        <p:spPr>
          <a:xfrm>
            <a:off x="2268000" y="1484280"/>
            <a:ext cx="1575720" cy="114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1" name=""/>
          <p:cNvCxnSpPr>
            <a:stCxn id="48" idx="6"/>
            <a:endCxn id="55" idx="1"/>
          </p:cNvCxnSpPr>
          <p:nvPr/>
        </p:nvCxnSpPr>
        <p:spPr>
          <a:xfrm>
            <a:off x="2268000" y="1483920"/>
            <a:ext cx="1575720" cy="1864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2" name=""/>
          <p:cNvCxnSpPr>
            <a:stCxn id="49" idx="6"/>
            <a:endCxn id="53" idx="2"/>
          </p:cNvCxnSpPr>
          <p:nvPr/>
        </p:nvCxnSpPr>
        <p:spPr>
          <a:xfrm flipV="1">
            <a:off x="2268000" y="2060280"/>
            <a:ext cx="151236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3" name=""/>
          <p:cNvCxnSpPr>
            <a:stCxn id="49" idx="6"/>
            <a:endCxn id="54" idx="1"/>
          </p:cNvCxnSpPr>
          <p:nvPr/>
        </p:nvCxnSpPr>
        <p:spPr>
          <a:xfrm>
            <a:off x="2268000" y="2131560"/>
            <a:ext cx="1575720" cy="4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4" name=""/>
          <p:cNvCxnSpPr>
            <a:stCxn id="50" idx="6"/>
            <a:endCxn id="54" idx="2"/>
          </p:cNvCxnSpPr>
          <p:nvPr/>
        </p:nvCxnSpPr>
        <p:spPr>
          <a:xfrm>
            <a:off x="2268000" y="2781000"/>
            <a:ext cx="1512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5" name=""/>
          <p:cNvCxnSpPr>
            <a:stCxn id="50" idx="6"/>
            <a:endCxn id="53" idx="2"/>
          </p:cNvCxnSpPr>
          <p:nvPr/>
        </p:nvCxnSpPr>
        <p:spPr>
          <a:xfrm flipV="1">
            <a:off x="2268000" y="2060280"/>
            <a:ext cx="151236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6" name=""/>
          <p:cNvCxnSpPr>
            <a:stCxn id="51" idx="6"/>
            <a:endCxn id="54" idx="2"/>
          </p:cNvCxnSpPr>
          <p:nvPr/>
        </p:nvCxnSpPr>
        <p:spPr>
          <a:xfrm flipV="1">
            <a:off x="2268000" y="2780640"/>
            <a:ext cx="151236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7" name=""/>
          <p:cNvCxnSpPr>
            <a:stCxn id="52" idx="6"/>
            <a:endCxn id="54" idx="3"/>
          </p:cNvCxnSpPr>
          <p:nvPr/>
        </p:nvCxnSpPr>
        <p:spPr>
          <a:xfrm flipV="1">
            <a:off x="2268000" y="2933280"/>
            <a:ext cx="1575720" cy="12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8" name=""/>
          <p:cNvCxnSpPr>
            <a:stCxn id="52" idx="6"/>
            <a:endCxn id="55" idx="3"/>
          </p:cNvCxnSpPr>
          <p:nvPr/>
        </p:nvCxnSpPr>
        <p:spPr>
          <a:xfrm flipV="1">
            <a:off x="2268000" y="3652560"/>
            <a:ext cx="1575720" cy="497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" name=""/>
          <p:cNvCxnSpPr>
            <a:stCxn id="50" idx="6"/>
            <a:endCxn id="55" idx="2"/>
          </p:cNvCxnSpPr>
          <p:nvPr/>
        </p:nvCxnSpPr>
        <p:spPr>
          <a:xfrm>
            <a:off x="2268000" y="2781000"/>
            <a:ext cx="1512360" cy="71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0" name=""/>
          <p:cNvCxnSpPr>
            <a:stCxn id="51" idx="6"/>
            <a:endCxn id="55" idx="3"/>
          </p:cNvCxnSpPr>
          <p:nvPr/>
        </p:nvCxnSpPr>
        <p:spPr>
          <a:xfrm>
            <a:off x="2268000" y="3429000"/>
            <a:ext cx="1575720" cy="224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" name=""/>
          <p:cNvCxnSpPr>
            <a:stCxn id="51" idx="6"/>
            <a:endCxn id="53" idx="3"/>
          </p:cNvCxnSpPr>
          <p:nvPr/>
        </p:nvCxnSpPr>
        <p:spPr>
          <a:xfrm flipV="1">
            <a:off x="2268000" y="2212560"/>
            <a:ext cx="1575720" cy="12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" name=""/>
          <p:cNvCxnSpPr>
            <a:stCxn id="53" idx="6"/>
            <a:endCxn id="56" idx="2"/>
          </p:cNvCxnSpPr>
          <p:nvPr/>
        </p:nvCxnSpPr>
        <p:spPr>
          <a:xfrm>
            <a:off x="4212720" y="2060280"/>
            <a:ext cx="1367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3" name=""/>
          <p:cNvCxnSpPr>
            <a:stCxn id="53" idx="6"/>
            <a:endCxn id="57" idx="2"/>
          </p:cNvCxnSpPr>
          <p:nvPr/>
        </p:nvCxnSpPr>
        <p:spPr>
          <a:xfrm>
            <a:off x="4212720" y="2060640"/>
            <a:ext cx="136764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4" name=""/>
          <p:cNvCxnSpPr>
            <a:stCxn id="54" idx="6"/>
            <a:endCxn id="56" idx="2"/>
          </p:cNvCxnSpPr>
          <p:nvPr/>
        </p:nvCxnSpPr>
        <p:spPr>
          <a:xfrm flipV="1">
            <a:off x="4212720" y="2060280"/>
            <a:ext cx="136764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5" name=""/>
          <p:cNvCxnSpPr>
            <a:stCxn id="54" idx="6"/>
            <a:endCxn id="57" idx="2"/>
          </p:cNvCxnSpPr>
          <p:nvPr/>
        </p:nvCxnSpPr>
        <p:spPr>
          <a:xfrm>
            <a:off x="4212720" y="2781000"/>
            <a:ext cx="1367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6" name=""/>
          <p:cNvCxnSpPr>
            <a:stCxn id="55" idx="6"/>
            <a:endCxn id="58" idx="2"/>
          </p:cNvCxnSpPr>
          <p:nvPr/>
        </p:nvCxnSpPr>
        <p:spPr>
          <a:xfrm flipV="1">
            <a:off x="4212720" y="3428640"/>
            <a:ext cx="136764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7" name=""/>
          <p:cNvCxnSpPr>
            <a:stCxn id="55" idx="6"/>
            <a:endCxn id="57" idx="2"/>
          </p:cNvCxnSpPr>
          <p:nvPr/>
        </p:nvCxnSpPr>
        <p:spPr>
          <a:xfrm flipV="1">
            <a:off x="4212720" y="2780640"/>
            <a:ext cx="1367640" cy="71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8" name=""/>
          <p:cNvSpPr/>
          <p:nvPr/>
        </p:nvSpPr>
        <p:spPr>
          <a:xfrm>
            <a:off x="2859120" y="789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 Unicode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76500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*</a:t>
            </a:r>
            <a:r>
              <a:rPr b="0" i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φ</a:t>
            </a:r>
            <a:r>
              <a:rPr b="0" lang="en-A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49" idx="6"/>
            <a:endCxn id="55" idx="2"/>
          </p:cNvCxnSpPr>
          <p:nvPr/>
        </p:nvCxnSpPr>
        <p:spPr>
          <a:xfrm>
            <a:off x="2268000" y="2131560"/>
            <a:ext cx="1512360" cy="136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" name=""/>
          <p:cNvCxnSpPr>
            <a:stCxn id="52" idx="6"/>
            <a:endCxn id="53" idx="3"/>
          </p:cNvCxnSpPr>
          <p:nvPr/>
        </p:nvCxnSpPr>
        <p:spPr>
          <a:xfrm flipV="1">
            <a:off x="2268000" y="2212560"/>
            <a:ext cx="1575720" cy="1937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2" name=""/>
          <p:cNvCxnSpPr>
            <a:stCxn id="55" idx="6"/>
            <a:endCxn id="56" idx="2"/>
          </p:cNvCxnSpPr>
          <p:nvPr/>
        </p:nvCxnSpPr>
        <p:spPr>
          <a:xfrm flipV="1">
            <a:off x="4212720" y="2059920"/>
            <a:ext cx="1367640" cy="1440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3" name=""/>
          <p:cNvCxnSpPr>
            <a:stCxn id="54" idx="6"/>
            <a:endCxn id="58" idx="2"/>
          </p:cNvCxnSpPr>
          <p:nvPr/>
        </p:nvCxnSpPr>
        <p:spPr>
          <a:xfrm>
            <a:off x="4212720" y="2781000"/>
            <a:ext cx="136764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4" name=""/>
          <p:cNvCxnSpPr>
            <a:stCxn id="53" idx="6"/>
            <a:endCxn id="58" idx="2"/>
          </p:cNvCxnSpPr>
          <p:nvPr/>
        </p:nvCxnSpPr>
        <p:spPr>
          <a:xfrm>
            <a:off x="4212720" y="2060280"/>
            <a:ext cx="1367640" cy="136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1046880" y="256536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9200" y="24922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040" y="4676760"/>
            <a:ext cx="44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5-3-3 Neural net, no skip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EC2-DAE9-409D-8E74-AD951013F5F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gression fun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think of these as regression equation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ternal layer transformations: logisti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utput transformations: Linear, logistic or threshol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ion criteria: OLS, Logistic or ‘softmax’ (p. 245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843280" y="2276640"/>
          <a:ext cx="23032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276640"/>
                    <a:ext cx="23032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340000" y="3573360"/>
          <a:ext cx="316872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573360"/>
                    <a:ext cx="31687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293-C0EF-491A-8915-68D3845E8F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enalized estim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 idea: minimiz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cale the x-variables to be in [0,1] and measure ‘roughenss’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ntropy fit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east squares fit: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19640" y="2421000"/>
          <a:ext cx="194292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421000"/>
                    <a:ext cx="1942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3716280"/>
          <a:ext cx="2447640" cy="9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244764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564000" y="5300640"/>
          <a:ext cx="3168720" cy="61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5300640"/>
                    <a:ext cx="316872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843280" y="4581360"/>
          <a:ext cx="266544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581360"/>
                    <a:ext cx="26654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674B-7E79-4D51-BFBC-E39677CE1B8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ial cas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no penalties, linear output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(Multivariate) linear regression (the hard wa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no penalties, logistic output function, one output nod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 (the hard wa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skip layer, one internal node, Kullback-Liebler objective function with no penalti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 aga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‘softmax’ objective function, no penalti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ultiple logistic, multinomial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E63-BBC8-4A59-816E-3503E49CA3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inear Regression the Hard Way: a chec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 &lt;- nnet(1000/MPG.city ~ Weight+Origin+Type, Cars93, linout = T, size = 0, decay = 0, rang = 0, skip = T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213926.872885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1474.56415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1461.84929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b-&gt;o      i1-&gt;o      i2-&gt;o    i3-&gt;o      i4-&gt;o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6.079536 0.01337819 -0.6014517 2.225679 -0.245694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5-&gt;o      i6-&gt;o     i7-&gt;o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0.07327528 -0.2431229 0.344345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6F1-B2B7-42F3-89D9-0E2AAF358D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1 &lt;- lm(1000/MPG.city ~ Weight + Origin+Type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ts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   Weight     Origin    Type1      Type2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6.079531 0.0133782 -0.6014518 2.225679 -0.245695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ype3      Type4     Type5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0.07327431 -0.2431231 0.344344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coef(tst) - coef(tst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7.084505e-009  4.709652e-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D52-17F1-4CAF-A935-581DD12D75F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gistic regression is a special ca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irth weight data agai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 &lt;- nnet(low ~ ptd + ftv/age, data = bwt, entropy = T, skip = T, size = 0, decay = 0, rang = 0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# weights:  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initial  value 131.004817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iter  10 value 101.71356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inal  value 101.676271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1 &lt;- glm(low ~ ptd + ftv/age, binomial, bw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coef(tst) - coef(tst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] -0.0001691513  0.000321821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DB9-DF36-4399-A00A-4738E038247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3:11Z</dcterms:modified>
  <cp:revision>15</cp:revision>
  <dc:subject/>
  <dc:title>S-PLUS, An Introduction to the System</dc:title>
</cp:coreProperties>
</file>